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applause.wav" ContentType="audio/x-wav"/>
  <Override PartName="/ppt/media/image9.wmf" ContentType="image/x-wmf"/>
  <Override PartName="/ppt/media/image12.png" ContentType="image/png"/>
  <Override PartName="/ppt/media/whoosh.wav" ContentType="audio/x-wav"/>
  <Override PartName="/ppt/media/image2.png" ContentType="image/png"/>
  <Override PartName="/ppt/media/image3.png" ContentType="image/png"/>
  <Override PartName="/ppt/media/image1.jpeg" ContentType="image/jpeg"/>
  <Override PartName="/ppt/media/image4.gif" ContentType="image/gif"/>
  <Override PartName="/ppt/media/image11.jpeg" ContentType="image/jpeg"/>
  <Override PartName="/ppt/media/chimes.wav" ContentType="audio/x-wav"/>
  <Override PartName="/ppt/media/image5.gif" ContentType="image/gif"/>
  <Override PartName="/ppt/media/image10.gif" ContentType="image/gif"/>
  <Override PartName="/ppt/media/image6.png" ContentType="image/png"/>
  <Override PartName="/ppt/media/image7.jpeg" ContentType="image/jpe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93F-484A-4107-9E5C-1977E264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2512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D839-F6DA-4FA9-8934-9246F0A1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5200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2512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52000" y="42512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7635-099D-4152-B900-30EDC4CF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90760" y="21016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4680" y="21016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2512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90760" y="42512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4680" y="42512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D60-8252-48CA-8CBE-371FFF38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1FFA-AB6F-4E67-B6D8-8694C52D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BB34-11FB-4423-93BE-602144E7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7F42-50E9-4935-A80F-2D5F18E3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21016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8D59-A245-456E-9384-9554D398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5FA5-59C5-40B4-9E8C-E6A4698C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8377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4BA5-3E64-46DF-B821-491B6D59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21016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2512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0E76-0F7F-4B0F-B7C5-372AB64C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517-FEBD-4B91-87F9-D736F058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200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2000" y="42512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C3CB-C5EC-4C25-9662-7947A187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200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12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D3E8-55E8-4179-BB56-B0B306DA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840" y="42512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9E19-1303-4475-8301-FA6513D3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200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2512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2000" y="42512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AE13-C142-4F7F-A4E3-55989AC8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90760" y="21016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4680" y="21016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6840" y="42512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90760" y="42512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4680" y="42512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ED26-AF27-4724-943C-1C9838EF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FC5-ED9E-4924-AC0B-2B8B0A28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21016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20AE-D57F-4EAA-AFBB-F45F2B8E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E3A8-BFA1-40F8-8114-1D0B2DB5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8377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E68-35C9-4411-9943-5D792B3C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21016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2512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503-E854-4AF8-894B-4102C2B5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52000" y="42512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5A0-A1C4-40AA-8D4D-50122D59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2000" y="21016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2512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1417-9844-4514-8157-3F612556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7A0F-0668-4498-9D91-554D67A2CF6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2A8C-1937-4F3B-9578-1D80BA2950B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Gill Sans Ultra Bold Condensed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Gill Sans Ultra Bold Condensed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Gill Sans Ultra Bold Condensed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Gill Sans Ultra Bold Condensed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Gill Sans Ultra Bold Condensed"/>
              </a:rPr>
              <a:t>Intro to Microsoft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Gill Sans Ultra Bold Condensed"/>
              </a:rPr>
              <a:t>PowerPoint</a:t>
            </a: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1295640" cy="1276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15200" y="457200"/>
            <a:ext cx="1295280" cy="1276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581280" y="4343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erlin Sans FB Demi"/>
              </a:rPr>
              <a:t>Formatting your Text &amp; Slides </a:t>
            </a:r>
            <a:r>
              <a:rPr b="0" lang="en-US" sz="2000" spc="-1" strike="noStrike">
                <a:solidFill>
                  <a:srgbClr val="ff0000"/>
                </a:solidFill>
                <a:latin typeface="Berlin Sans FB Demi"/>
              </a:rPr>
              <a:t>cont’d:</a:t>
            </a:r>
            <a:endParaRPr b="0" lang="en-US" sz="20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ill Sans Ultra Bold Condensed"/>
              </a:rPr>
              <a:t>Still adding a background to your slides: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ill Sans Ultra Bold Condensed"/>
              </a:rPr>
              <a:t>3.  (Picture) Format, Background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ill Sans Ultra Bold Condensed"/>
              </a:rPr>
              <a:t>choose dropdown box, Fill Effects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ill Sans Ultra Bold Condensed"/>
              </a:rPr>
              <a:t>Click the Picture Tab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ill Sans Ultra Bold Condensed"/>
              </a:rPr>
              <a:t>Choose a picture that you have saved in your folder on the server.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ill Sans Ultra Bold Condensed"/>
              </a:rPr>
              <a:t>Don’t forget to check ”Omit master graphics” and Apply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Berlin Sans FB Demi"/>
              </a:rPr>
              <a:t>Formatting your Text &amp; Slides </a:t>
            </a:r>
            <a:r>
              <a:rPr b="0" lang="en-US" sz="2000" spc="-1" strike="noStrike">
                <a:solidFill>
                  <a:srgbClr val="ff66cc"/>
                </a:solidFill>
                <a:latin typeface="Berlin Sans FB Demi"/>
              </a:rPr>
              <a:t>cont’d:</a:t>
            </a:r>
            <a:endParaRPr b="0" lang="en-US" sz="20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01320"/>
            <a:ext cx="83818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Gill Sans Ultra Bold Condensed"/>
              </a:rPr>
              <a:t>Still adding a background to your slides: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Gill Sans Ultra Bold Condensed"/>
              </a:rPr>
              <a:t>4.  (Internet) Find a cool background on GRSites.com 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Gill Sans Ultra Bold Condensed"/>
              </a:rPr>
              <a:t>Rt. Click and ”Save Picture As” and save it to your folder on Leaddog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Gill Sans Ultra Bold Condensed"/>
              </a:rPr>
              <a:t>Format, Background, Fill Effects, Picture, select the background you have saved.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Gill Sans Ultra Bold Condensed"/>
              </a:rPr>
              <a:t>Omit master graphics, Apply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Berlin Sans FB Demi"/>
              </a:rPr>
              <a:t>Adding Graphics and Animations</a:t>
            </a:r>
            <a:endParaRPr b="0" lang="en-US" sz="36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Just like in MS Word: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Insert, picture, clipart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may go to MS Clip Gallery Online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may also go to animated graphic websites on Mrs. Keehn’s webpage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Berlin Sans FB Demi"/>
              </a:rPr>
              <a:t>Adding Graphics and Animations</a:t>
            </a:r>
            <a:endParaRPr b="0" lang="en-US" sz="36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Graphics can include: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Clipart – cartoon-like pictures that don’t move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Animated graphics – pictures that move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Photos – pictures that have been scanned in or taken with a  digital camera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Autoshapes – pictures that you have drawn from your Drawing toolbar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Graphics do NOT wrap around text in PowerPoint – you just have to resize your text box  &amp; graphics to make stuff fit.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Berlin Sans FB Demi"/>
              </a:rPr>
              <a:t>Adding Graphics and Animations</a:t>
            </a:r>
            <a:endParaRPr b="0" lang="en-US" sz="36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Graphics can include: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1904760" cy="1760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81080" y="2819520"/>
            <a:ext cx="2362320" cy="145872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1621800" y="4406400"/>
            <a:ext cx="1707120" cy="2146680"/>
            <a:chOff x="1621800" y="4406400"/>
            <a:chExt cx="1707120" cy="2146680"/>
          </a:xfrm>
        </p:grpSpPr>
        <p:sp>
          <p:nvSpPr>
            <p:cNvPr id="125" name=""/>
            <p:cNvSpPr/>
            <p:nvPr/>
          </p:nvSpPr>
          <p:spPr>
            <a:xfrm>
              <a:off x="2133720" y="6324480"/>
              <a:ext cx="914400" cy="228600"/>
            </a:xfrm>
            <a:prstGeom prst="ellipse">
              <a:avLst/>
            </a:prstGeom>
            <a:solidFill>
              <a:srgbClr val="5b5249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09680" y="5105520"/>
              <a:ext cx="762120" cy="1218960"/>
            </a:xfrm>
            <a:prstGeom prst="ellipse">
              <a:avLst/>
            </a:prstGeom>
            <a:solidFill>
              <a:srgbClr val="948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209680" y="5943600"/>
              <a:ext cx="380880" cy="533520"/>
              <a:chOff x="2209680" y="5943600"/>
              <a:chExt cx="380880" cy="533520"/>
            </a:xfrm>
          </p:grpSpPr>
          <p:sp>
            <p:nvSpPr>
              <p:cNvPr id="128" name=""/>
              <p:cNvSpPr/>
              <p:nvPr/>
            </p:nvSpPr>
            <p:spPr>
              <a:xfrm>
                <a:off x="2438280" y="5943600"/>
                <a:ext cx="152280" cy="5335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533520"/>
                  <a:gd name="textAreaBottom" fmla="*/ 526320 h 533520"/>
                </a:gdLst>
                <a:ahLst/>
                <a:rect l="textAreaLeft" t="textAreaTop" r="textAreaRight" b="textAreaBottom"/>
                <a:pathLst>
                  <a:path w="21600" h="75549">
                    <a:moveTo>
                      <a:pt x="3600" y="0"/>
                    </a:moveTo>
                    <a:arcTo wR="3600" hR="3600" stAng="16200000" swAng="-5400000"/>
                    <a:lnTo>
                      <a:pt x="0" y="71949"/>
                    </a:lnTo>
                    <a:arcTo wR="3600" hR="3600" stAng="10800000" swAng="-5400000"/>
                    <a:lnTo>
                      <a:pt x="18000" y="7554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48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209680" y="6324480"/>
                <a:ext cx="380880" cy="152640"/>
              </a:xfrm>
              <a:prstGeom prst="ellipse">
                <a:avLst/>
              </a:prstGeom>
              <a:solidFill>
                <a:srgbClr val="948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590920" y="5943600"/>
              <a:ext cx="380880" cy="533520"/>
              <a:chOff x="2590920" y="5943600"/>
              <a:chExt cx="380880" cy="533520"/>
            </a:xfrm>
          </p:grpSpPr>
          <p:sp>
            <p:nvSpPr>
              <p:cNvPr id="131" name=""/>
              <p:cNvSpPr/>
              <p:nvPr/>
            </p:nvSpPr>
            <p:spPr>
              <a:xfrm>
                <a:off x="2590920" y="5943600"/>
                <a:ext cx="152280" cy="5335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533520"/>
                  <a:gd name="textAreaBottom" fmla="*/ 526320 h 533520"/>
                </a:gdLst>
                <a:ahLst/>
                <a:rect l="textAreaLeft" t="textAreaTop" r="textAreaRight" b="textAreaBottom"/>
                <a:pathLst>
                  <a:path w="21600" h="75549">
                    <a:moveTo>
                      <a:pt x="3600" y="0"/>
                    </a:moveTo>
                    <a:arcTo wR="3600" hR="3600" stAng="16200000" swAng="-5400000"/>
                    <a:lnTo>
                      <a:pt x="0" y="71949"/>
                    </a:lnTo>
                    <a:arcTo wR="3600" hR="3600" stAng="10800000" swAng="-5400000"/>
                    <a:lnTo>
                      <a:pt x="18000" y="7554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48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90920" y="6324480"/>
                <a:ext cx="380880" cy="152640"/>
              </a:xfrm>
              <a:prstGeom prst="ellipse">
                <a:avLst/>
              </a:prstGeom>
              <a:solidFill>
                <a:srgbClr val="948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2209680" y="4572000"/>
              <a:ext cx="762120" cy="76212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167400 h 762120"/>
                <a:gd name="textAreaBottom" fmla="*/ 5947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48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7986600">
              <a:off x="2932920" y="4457160"/>
              <a:ext cx="304920" cy="38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48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3296400">
              <a:off x="1942920" y="4457520"/>
              <a:ext cx="304920" cy="38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48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0873200">
              <a:off x="2514240" y="49525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8280" y="4724280"/>
              <a:ext cx="7632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66880" y="4724280"/>
              <a:ext cx="7632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8731400">
              <a:off x="1828800" y="5639040"/>
              <a:ext cx="457200" cy="76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70" y="1532"/>
                    <a:pt x="8539" y="5080"/>
                    <a:pt x="8539" y="10800"/>
                  </a:cubicBezTo>
                  <a:cubicBezTo>
                    <a:pt x="8539" y="16520"/>
                    <a:pt x="15070" y="2006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48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19200">
              <a:off x="2476080" y="4990680"/>
              <a:ext cx="228600" cy="3049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90920" y="5791320"/>
              <a:ext cx="0" cy="68580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5867280"/>
              <a:ext cx="0" cy="45720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38280" y="5867280"/>
              <a:ext cx="0" cy="45720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6000" y="5257800"/>
              <a:ext cx="228600" cy="228600"/>
            </a:xfrm>
            <a:prstGeom prst="ellipse">
              <a:avLst/>
            </a:prstGeom>
            <a:solidFill>
              <a:srgbClr val="5b5249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5486400"/>
              <a:ext cx="76320" cy="76320"/>
            </a:xfrm>
            <a:prstGeom prst="ellipse">
              <a:avLst/>
            </a:prstGeom>
            <a:solidFill>
              <a:srgbClr val="5b5249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19520" y="5334120"/>
              <a:ext cx="75960" cy="304560"/>
            </a:xfrm>
            <a:prstGeom prst="ellipse">
              <a:avLst/>
            </a:prstGeom>
            <a:solidFill>
              <a:srgbClr val="5b5249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43200" y="4572000"/>
              <a:ext cx="228600" cy="152280"/>
            </a:xfrm>
            <a:prstGeom prst="ellipse">
              <a:avLst/>
            </a:prstGeom>
            <a:solidFill>
              <a:srgbClr val="5b5249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191120" y="4572000"/>
            <a:ext cx="2590560" cy="1684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 rot="19649400">
            <a:off x="456840" y="3276720"/>
            <a:ext cx="1876320" cy="57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imate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raphic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 rot="3583800">
            <a:off x="6511680" y="2707920"/>
            <a:ext cx="1876320" cy="57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lip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 rot="2302800">
            <a:off x="6553080" y="5105160"/>
            <a:ext cx="1876680" cy="57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hot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 rot="19649400">
            <a:off x="456840" y="5334120"/>
            <a:ext cx="1876320" cy="57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utoShap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Berlin Sans FB Demi"/>
              </a:rPr>
              <a:t>Adding Graphics and Animations</a:t>
            </a:r>
            <a:endParaRPr b="0" lang="en-US" sz="36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Custom Animations are what make your presentation come alive!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Zooms, Bangs, Claps, Flips, etc. (Known as the ”Bells &amp; Whistles”)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Go to: Slide Show, Custom Animations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~or~  click on the Custom Animation button on your formatting toolbar!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Berlin Sans FB Demi"/>
              </a:rPr>
              <a:t>Adding Graphics and Animations</a:t>
            </a:r>
            <a:endParaRPr b="0" lang="en-US" sz="36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Adding Custom Animations: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Check what you want to animate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Click on ”Effects” Tab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Select your entry animation and sound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Click on ”Order &amp; Timing” tab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Decide what order you want your animations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Click on the Preview button to help you decide before clicking OK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Berlin Sans FB Demi"/>
              </a:rPr>
              <a:t>Adding Graphics and Animations</a:t>
            </a:r>
            <a:endParaRPr b="0" lang="en-US" sz="36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Adding Custom Animations: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You may decide to group your text by paragraph.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Please do NOT have your text come in by LETTER or by WORD!!!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It takes too long.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PowerPoint Window    </a:t>
            </a: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3520" y="1905120"/>
            <a:ext cx="1828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Formatting Toolba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tandard Toolba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nimation Toolba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rawing Toolba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20800" y="2013120"/>
            <a:ext cx="1193760" cy="2212920"/>
          </a:xfrm>
          <a:custGeom>
            <a:avLst/>
            <a:gdLst/>
            <a:ahLst/>
            <a:rect l="l" t="t" r="r" b="b"/>
            <a:pathLst>
              <a:path w="3317" h="6147">
                <a:moveTo>
                  <a:pt x="5676" y="6125"/>
                </a:moveTo>
                <a:cubicBezTo>
                  <a:pt x="5676" y="6118"/>
                  <a:pt x="5675" y="6114"/>
                  <a:pt x="5669" y="6110"/>
                </a:cubicBezTo>
                <a:cubicBezTo>
                  <a:pt x="5728" y="6110"/>
                  <a:pt x="5783" y="6116"/>
                  <a:pt x="5841" y="6122"/>
                </a:cubicBezTo>
                <a:cubicBezTo>
                  <a:pt x="5864" y="6125"/>
                  <a:pt x="5885" y="6132"/>
                  <a:pt x="5908" y="6137"/>
                </a:cubicBezTo>
                <a:cubicBezTo>
                  <a:pt x="5952" y="6146"/>
                  <a:pt x="5994" y="6158"/>
                  <a:pt x="6036" y="6168"/>
                </a:cubicBezTo>
                <a:cubicBezTo>
                  <a:pt x="6049" y="6171"/>
                  <a:pt x="6062" y="6172"/>
                  <a:pt x="6075" y="6175"/>
                </a:cubicBezTo>
                <a:cubicBezTo>
                  <a:pt x="6106" y="6182"/>
                  <a:pt x="6136" y="6190"/>
                  <a:pt x="6166" y="6199"/>
                </a:cubicBezTo>
                <a:cubicBezTo>
                  <a:pt x="6184" y="6204"/>
                  <a:pt x="6201" y="6210"/>
                  <a:pt x="6218" y="6216"/>
                </a:cubicBezTo>
                <a:cubicBezTo>
                  <a:pt x="6246" y="6225"/>
                  <a:pt x="6273" y="6235"/>
                  <a:pt x="6302" y="6243"/>
                </a:cubicBezTo>
                <a:cubicBezTo>
                  <a:pt x="6321" y="6248"/>
                  <a:pt x="6342" y="6252"/>
                  <a:pt x="6361" y="6259"/>
                </a:cubicBezTo>
                <a:cubicBezTo>
                  <a:pt x="6383" y="6267"/>
                  <a:pt x="6403" y="6274"/>
                  <a:pt x="6425" y="6281"/>
                </a:cubicBezTo>
                <a:cubicBezTo>
                  <a:pt x="6444" y="6287"/>
                  <a:pt x="6462" y="6292"/>
                  <a:pt x="6481" y="6298"/>
                </a:cubicBezTo>
                <a:cubicBezTo>
                  <a:pt x="6511" y="6307"/>
                  <a:pt x="6535" y="6315"/>
                  <a:pt x="6565" y="6320"/>
                </a:cubicBezTo>
                <a:cubicBezTo>
                  <a:pt x="6589" y="6324"/>
                  <a:pt x="6612" y="6328"/>
                  <a:pt x="6636" y="6329"/>
                </a:cubicBezTo>
                <a:cubicBezTo>
                  <a:pt x="6662" y="6330"/>
                  <a:pt x="6684" y="6333"/>
                  <a:pt x="6710" y="6336"/>
                </a:cubicBezTo>
                <a:cubicBezTo>
                  <a:pt x="6737" y="6339"/>
                  <a:pt x="6765" y="6344"/>
                  <a:pt x="6791" y="6346"/>
                </a:cubicBezTo>
                <a:cubicBezTo>
                  <a:pt x="6810" y="6348"/>
                  <a:pt x="6829" y="6350"/>
                  <a:pt x="6848" y="6351"/>
                </a:cubicBezTo>
                <a:cubicBezTo>
                  <a:pt x="6872" y="6352"/>
                  <a:pt x="6896" y="6352"/>
                  <a:pt x="6919" y="6353"/>
                </a:cubicBezTo>
                <a:cubicBezTo>
                  <a:pt x="6936" y="6354"/>
                  <a:pt x="6952" y="6355"/>
                  <a:pt x="6969" y="6356"/>
                </a:cubicBezTo>
                <a:cubicBezTo>
                  <a:pt x="6998" y="6357"/>
                  <a:pt x="7027" y="6353"/>
                  <a:pt x="7057" y="6353"/>
                </a:cubicBezTo>
                <a:cubicBezTo>
                  <a:pt x="7090" y="6353"/>
                  <a:pt x="7121" y="6355"/>
                  <a:pt x="7153" y="6356"/>
                </a:cubicBezTo>
                <a:cubicBezTo>
                  <a:pt x="7178" y="6357"/>
                  <a:pt x="7202" y="6357"/>
                  <a:pt x="7227" y="6358"/>
                </a:cubicBezTo>
                <a:cubicBezTo>
                  <a:pt x="7221" y="6355"/>
                  <a:pt x="7211" y="6357"/>
                  <a:pt x="7205" y="6353"/>
                </a:cubicBezTo>
                <a:cubicBezTo>
                  <a:pt x="7185" y="6341"/>
                  <a:pt x="7169" y="6319"/>
                  <a:pt x="7151" y="6305"/>
                </a:cubicBezTo>
                <a:cubicBezTo>
                  <a:pt x="7131" y="6289"/>
                  <a:pt x="7110" y="6274"/>
                  <a:pt x="7089" y="6259"/>
                </a:cubicBezTo>
                <a:cubicBezTo>
                  <a:pt x="7075" y="6248"/>
                  <a:pt x="7060" y="6237"/>
                  <a:pt x="7045" y="6228"/>
                </a:cubicBezTo>
                <a:cubicBezTo>
                  <a:pt x="7035" y="6222"/>
                  <a:pt x="7023" y="6214"/>
                  <a:pt x="7013" y="6209"/>
                </a:cubicBezTo>
                <a:cubicBezTo>
                  <a:pt x="7005" y="6205"/>
                  <a:pt x="6998" y="6205"/>
                  <a:pt x="6991" y="6202"/>
                </a:cubicBezTo>
                <a:cubicBezTo>
                  <a:pt x="6995" y="6207"/>
                  <a:pt x="6999" y="6213"/>
                  <a:pt x="7003" y="6218"/>
                </a:cubicBezTo>
                <a:cubicBezTo>
                  <a:pt x="7012" y="6229"/>
                  <a:pt x="7020" y="6239"/>
                  <a:pt x="7030" y="6250"/>
                </a:cubicBezTo>
                <a:cubicBezTo>
                  <a:pt x="7047" y="6268"/>
                  <a:pt x="7067" y="6285"/>
                  <a:pt x="7084" y="6303"/>
                </a:cubicBezTo>
                <a:cubicBezTo>
                  <a:pt x="7096" y="6316"/>
                  <a:pt x="7108" y="6327"/>
                  <a:pt x="7121" y="6339"/>
                </a:cubicBezTo>
                <a:cubicBezTo>
                  <a:pt x="7133" y="6349"/>
                  <a:pt x="7144" y="6358"/>
                  <a:pt x="7156" y="6368"/>
                </a:cubicBezTo>
                <a:cubicBezTo>
                  <a:pt x="7164" y="6374"/>
                  <a:pt x="7176" y="6383"/>
                  <a:pt x="7183" y="6389"/>
                </a:cubicBezTo>
                <a:cubicBezTo>
                  <a:pt x="7188" y="6393"/>
                  <a:pt x="7197" y="6399"/>
                  <a:pt x="7200" y="6404"/>
                </a:cubicBezTo>
                <a:cubicBezTo>
                  <a:pt x="7204" y="6410"/>
                  <a:pt x="7207" y="6409"/>
                  <a:pt x="7207" y="6418"/>
                </a:cubicBezTo>
                <a:cubicBezTo>
                  <a:pt x="7207" y="6425"/>
                  <a:pt x="7204" y="6427"/>
                  <a:pt x="7202" y="6433"/>
                </a:cubicBezTo>
                <a:cubicBezTo>
                  <a:pt x="7200" y="6437"/>
                  <a:pt x="7169" y="6461"/>
                  <a:pt x="7165" y="6464"/>
                </a:cubicBezTo>
                <a:cubicBezTo>
                  <a:pt x="7139" y="6485"/>
                  <a:pt x="7109" y="6501"/>
                  <a:pt x="7082" y="6519"/>
                </a:cubicBezTo>
                <a:cubicBezTo>
                  <a:pt x="7059" y="6535"/>
                  <a:pt x="7035" y="6549"/>
                  <a:pt x="7013" y="6565"/>
                </a:cubicBezTo>
                <a:cubicBezTo>
                  <a:pt x="6999" y="6575"/>
                  <a:pt x="6989" y="6586"/>
                  <a:pt x="6973" y="6594"/>
                </a:cubicBezTo>
                <a:cubicBezTo>
                  <a:pt x="6967" y="6597"/>
                  <a:pt x="6964" y="6598"/>
                  <a:pt x="6959" y="6601"/>
                </a:cubicBezTo>
                <a:cubicBezTo>
                  <a:pt x="6951" y="6605"/>
                  <a:pt x="6976" y="6592"/>
                  <a:pt x="6969" y="6587"/>
                </a:cubicBezTo>
              </a:path>
              <a:path w="3317" h="6147">
                <a:moveTo>
                  <a:pt x="4822" y="9242"/>
                </a:moveTo>
                <a:cubicBezTo>
                  <a:pt x="4817" y="9238"/>
                  <a:pt x="4811" y="9231"/>
                  <a:pt x="4807" y="9228"/>
                </a:cubicBezTo>
                <a:cubicBezTo>
                  <a:pt x="4814" y="9223"/>
                  <a:pt x="4817" y="9217"/>
                  <a:pt x="4827" y="9211"/>
                </a:cubicBezTo>
                <a:cubicBezTo>
                  <a:pt x="4929" y="9147"/>
                  <a:pt x="5046" y="9102"/>
                  <a:pt x="5147" y="9035"/>
                </a:cubicBezTo>
                <a:cubicBezTo>
                  <a:pt x="5294" y="8937"/>
                  <a:pt x="5384" y="8779"/>
                  <a:pt x="5479" y="8636"/>
                </a:cubicBezTo>
                <a:cubicBezTo>
                  <a:pt x="5587" y="8472"/>
                  <a:pt x="5685" y="8303"/>
                  <a:pt x="5792" y="8138"/>
                </a:cubicBezTo>
                <a:cubicBezTo>
                  <a:pt x="5848" y="8052"/>
                  <a:pt x="5899" y="7961"/>
                  <a:pt x="5945" y="7869"/>
                </a:cubicBezTo>
                <a:cubicBezTo>
                  <a:pt x="6012" y="7734"/>
                  <a:pt x="6051" y="7587"/>
                  <a:pt x="6097" y="7445"/>
                </a:cubicBezTo>
                <a:cubicBezTo>
                  <a:pt x="6130" y="7343"/>
                  <a:pt x="6159" y="7240"/>
                  <a:pt x="6191" y="7137"/>
                </a:cubicBezTo>
                <a:cubicBezTo>
                  <a:pt x="6230" y="7013"/>
                  <a:pt x="6266" y="6889"/>
                  <a:pt x="6306" y="6765"/>
                </a:cubicBezTo>
                <a:cubicBezTo>
                  <a:pt x="6336" y="6671"/>
                  <a:pt x="6369" y="6576"/>
                  <a:pt x="6393" y="6481"/>
                </a:cubicBezTo>
                <a:cubicBezTo>
                  <a:pt x="6414" y="6398"/>
                  <a:pt x="6425" y="6318"/>
                  <a:pt x="6434" y="6233"/>
                </a:cubicBezTo>
                <a:cubicBezTo>
                  <a:pt x="6440" y="6170"/>
                  <a:pt x="6438" y="6098"/>
                  <a:pt x="6466" y="6040"/>
                </a:cubicBezTo>
                <a:cubicBezTo>
                  <a:pt x="6489" y="5991"/>
                  <a:pt x="6532" y="5957"/>
                  <a:pt x="6570" y="5920"/>
                </a:cubicBezTo>
                <a:cubicBezTo>
                  <a:pt x="6632" y="5858"/>
                  <a:pt x="6698" y="5803"/>
                  <a:pt x="6781" y="5776"/>
                </a:cubicBezTo>
                <a:cubicBezTo>
                  <a:pt x="6830" y="5760"/>
                  <a:pt x="6898" y="5753"/>
                  <a:pt x="6949" y="5764"/>
                </a:cubicBezTo>
                <a:cubicBezTo>
                  <a:pt x="6978" y="5770"/>
                  <a:pt x="7002" y="5792"/>
                  <a:pt x="7028" y="5800"/>
                </a:cubicBezTo>
                <a:cubicBezTo>
                  <a:pt x="7066" y="5811"/>
                  <a:pt x="7105" y="5819"/>
                  <a:pt x="7143" y="5831"/>
                </a:cubicBezTo>
                <a:cubicBezTo>
                  <a:pt x="7164" y="5837"/>
                  <a:pt x="7180" y="5844"/>
                  <a:pt x="7200" y="5850"/>
                </a:cubicBezTo>
                <a:cubicBezTo>
                  <a:pt x="7202" y="5850"/>
                  <a:pt x="7203" y="5850"/>
                  <a:pt x="7205" y="5850"/>
                </a:cubicBezTo>
                <a:cubicBezTo>
                  <a:pt x="7189" y="5808"/>
                  <a:pt x="7170" y="5761"/>
                  <a:pt x="7153" y="5718"/>
                </a:cubicBezTo>
                <a:cubicBezTo>
                  <a:pt x="7140" y="5685"/>
                  <a:pt x="7129" y="5649"/>
                  <a:pt x="7114" y="5617"/>
                </a:cubicBezTo>
                <a:cubicBezTo>
                  <a:pt x="7110" y="5609"/>
                  <a:pt x="7103" y="5596"/>
                  <a:pt x="7101" y="5591"/>
                </a:cubicBezTo>
                <a:cubicBezTo>
                  <a:pt x="7100" y="5591"/>
                  <a:pt x="7100" y="5591"/>
                  <a:pt x="7099" y="5591"/>
                </a:cubicBezTo>
                <a:cubicBezTo>
                  <a:pt x="7104" y="5601"/>
                  <a:pt x="7109" y="5605"/>
                  <a:pt x="7114" y="5615"/>
                </a:cubicBezTo>
                <a:cubicBezTo>
                  <a:pt x="7152" y="5693"/>
                  <a:pt x="7176" y="5774"/>
                  <a:pt x="7205" y="5855"/>
                </a:cubicBezTo>
                <a:cubicBezTo>
                  <a:pt x="7209" y="5867"/>
                  <a:pt x="7211" y="5878"/>
                  <a:pt x="7215" y="5889"/>
                </a:cubicBezTo>
                <a:cubicBezTo>
                  <a:pt x="7218" y="5898"/>
                  <a:pt x="7225" y="5901"/>
                  <a:pt x="7227" y="5908"/>
                </a:cubicBezTo>
                <a:cubicBezTo>
                  <a:pt x="7228" y="5911"/>
                  <a:pt x="7226" y="5915"/>
                  <a:pt x="7227" y="5918"/>
                </a:cubicBezTo>
                <a:cubicBezTo>
                  <a:pt x="7223" y="5919"/>
                  <a:pt x="7212" y="5926"/>
                  <a:pt x="7205" y="5927"/>
                </a:cubicBezTo>
                <a:cubicBezTo>
                  <a:pt x="7177" y="5932"/>
                  <a:pt x="7150" y="5935"/>
                  <a:pt x="7121" y="5939"/>
                </a:cubicBezTo>
                <a:cubicBezTo>
                  <a:pt x="7041" y="5949"/>
                  <a:pt x="6959" y="5955"/>
                  <a:pt x="6880" y="5968"/>
                </a:cubicBezTo>
                <a:cubicBezTo>
                  <a:pt x="6880" y="5971"/>
                  <a:pt x="6880" y="5972"/>
                  <a:pt x="6877" y="5971"/>
                </a:cubicBezTo>
                <a:cubicBezTo>
                  <a:pt x="6907" y="5970"/>
                  <a:pt x="6936" y="5969"/>
                  <a:pt x="6964" y="5968"/>
                </a:cubicBezTo>
              </a:path>
              <a:path w="3317" h="6147">
                <a:moveTo>
                  <a:pt x="4780" y="11735"/>
                </a:moveTo>
                <a:cubicBezTo>
                  <a:pt x="4895" y="11735"/>
                  <a:pt x="5003" y="11740"/>
                  <a:pt x="5115" y="11708"/>
                </a:cubicBezTo>
                <a:cubicBezTo>
                  <a:pt x="5330" y="11646"/>
                  <a:pt x="5485" y="11462"/>
                  <a:pt x="5642" y="11311"/>
                </a:cubicBezTo>
                <a:cubicBezTo>
                  <a:pt x="5791" y="11167"/>
                  <a:pt x="5941" y="11033"/>
                  <a:pt x="6055" y="10859"/>
                </a:cubicBezTo>
                <a:cubicBezTo>
                  <a:pt x="6199" y="10638"/>
                  <a:pt x="6328" y="10382"/>
                  <a:pt x="6427" y="10137"/>
                </a:cubicBezTo>
                <a:cubicBezTo>
                  <a:pt x="6503" y="9950"/>
                  <a:pt x="6552" y="9754"/>
                  <a:pt x="6589" y="9557"/>
                </a:cubicBezTo>
                <a:cubicBezTo>
                  <a:pt x="6616" y="9415"/>
                  <a:pt x="6622" y="9270"/>
                  <a:pt x="6639" y="9127"/>
                </a:cubicBezTo>
                <a:cubicBezTo>
                  <a:pt x="6672" y="8847"/>
                  <a:pt x="6691" y="8548"/>
                  <a:pt x="6754" y="8273"/>
                </a:cubicBezTo>
                <a:cubicBezTo>
                  <a:pt x="6790" y="8116"/>
                  <a:pt x="6856" y="7962"/>
                  <a:pt x="6912" y="7811"/>
                </a:cubicBezTo>
                <a:cubicBezTo>
                  <a:pt x="6960" y="7683"/>
                  <a:pt x="7008" y="7560"/>
                  <a:pt x="7099" y="7457"/>
                </a:cubicBezTo>
                <a:cubicBezTo>
                  <a:pt x="7171" y="7376"/>
                  <a:pt x="7260" y="7295"/>
                  <a:pt x="7338" y="7219"/>
                </a:cubicBezTo>
                <a:cubicBezTo>
                  <a:pt x="7422" y="7138"/>
                  <a:pt x="7514" y="7053"/>
                  <a:pt x="7601" y="6979"/>
                </a:cubicBezTo>
                <a:cubicBezTo>
                  <a:pt x="7641" y="6945"/>
                  <a:pt x="7679" y="6913"/>
                  <a:pt x="7724" y="6885"/>
                </a:cubicBezTo>
                <a:cubicBezTo>
                  <a:pt x="7768" y="6857"/>
                  <a:pt x="7810" y="6840"/>
                  <a:pt x="7857" y="6827"/>
                </a:cubicBezTo>
                <a:cubicBezTo>
                  <a:pt x="7930" y="6807"/>
                  <a:pt x="8005" y="6811"/>
                  <a:pt x="8079" y="6805"/>
                </a:cubicBezTo>
                <a:cubicBezTo>
                  <a:pt x="8070" y="6795"/>
                  <a:pt x="8058" y="6773"/>
                  <a:pt x="8047" y="6760"/>
                </a:cubicBezTo>
                <a:cubicBezTo>
                  <a:pt x="8036" y="6747"/>
                  <a:pt x="8026" y="6738"/>
                  <a:pt x="8015" y="6726"/>
                </a:cubicBezTo>
                <a:cubicBezTo>
                  <a:pt x="7995" y="6704"/>
                  <a:pt x="7963" y="6673"/>
                  <a:pt x="7948" y="6656"/>
                </a:cubicBezTo>
                <a:cubicBezTo>
                  <a:pt x="7956" y="6665"/>
                  <a:pt x="7968" y="6680"/>
                  <a:pt x="7980" y="6692"/>
                </a:cubicBezTo>
                <a:cubicBezTo>
                  <a:pt x="8021" y="6731"/>
                  <a:pt x="8110" y="6783"/>
                  <a:pt x="8089" y="6844"/>
                </a:cubicBezTo>
                <a:cubicBezTo>
                  <a:pt x="8081" y="6866"/>
                  <a:pt x="7994" y="6919"/>
                  <a:pt x="7975" y="6945"/>
                </a:cubicBezTo>
                <a:cubicBezTo>
                  <a:pt x="7936" y="6997"/>
                  <a:pt x="7897" y="7053"/>
                  <a:pt x="7857" y="7104"/>
                </a:cubicBezTo>
                <a:cubicBezTo>
                  <a:pt x="7855" y="7107"/>
                  <a:pt x="7849" y="7110"/>
                  <a:pt x="7847" y="7113"/>
                </a:cubicBezTo>
                <a:cubicBezTo>
                  <a:pt x="7859" y="7097"/>
                  <a:pt x="7870" y="7075"/>
                  <a:pt x="7884" y="7058"/>
                </a:cubicBezTo>
                <a:cubicBezTo>
                  <a:pt x="7921" y="7012"/>
                  <a:pt x="7962" y="6965"/>
                  <a:pt x="7997" y="691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6640" y="5100480"/>
            <a:ext cx="882720" cy="1020960"/>
          </a:xfrm>
          <a:custGeom>
            <a:avLst/>
            <a:gdLst/>
            <a:ahLst/>
            <a:rect l="l" t="t" r="r" b="b"/>
            <a:pathLst>
              <a:path w="2452" h="2837">
                <a:moveTo>
                  <a:pt x="4825" y="14174"/>
                </a:moveTo>
                <a:cubicBezTo>
                  <a:pt x="4835" y="14174"/>
                  <a:pt x="4839" y="14167"/>
                  <a:pt x="4849" y="14167"/>
                </a:cubicBezTo>
                <a:cubicBezTo>
                  <a:pt x="4995" y="14171"/>
                  <a:pt x="5145" y="14193"/>
                  <a:pt x="5282" y="14248"/>
                </a:cubicBezTo>
                <a:cubicBezTo>
                  <a:pt x="5340" y="14271"/>
                  <a:pt x="5394" y="14302"/>
                  <a:pt x="5445" y="14337"/>
                </a:cubicBezTo>
                <a:cubicBezTo>
                  <a:pt x="5679" y="14496"/>
                  <a:pt x="5897" y="14725"/>
                  <a:pt x="6006" y="14987"/>
                </a:cubicBezTo>
                <a:cubicBezTo>
                  <a:pt x="6024" y="15030"/>
                  <a:pt x="6036" y="15075"/>
                  <a:pt x="6050" y="15119"/>
                </a:cubicBezTo>
                <a:cubicBezTo>
                  <a:pt x="6077" y="15205"/>
                  <a:pt x="6097" y="15293"/>
                  <a:pt x="6122" y="15379"/>
                </a:cubicBezTo>
                <a:cubicBezTo>
                  <a:pt x="6145" y="15460"/>
                  <a:pt x="6170" y="15540"/>
                  <a:pt x="6196" y="15620"/>
                </a:cubicBezTo>
                <a:cubicBezTo>
                  <a:pt x="6260" y="15812"/>
                  <a:pt x="6338" y="15985"/>
                  <a:pt x="6486" y="16125"/>
                </a:cubicBezTo>
                <a:cubicBezTo>
                  <a:pt x="6504" y="16142"/>
                  <a:pt x="6523" y="16160"/>
                  <a:pt x="6543" y="16175"/>
                </a:cubicBezTo>
                <a:cubicBezTo>
                  <a:pt x="6558" y="16186"/>
                  <a:pt x="6576" y="16201"/>
                  <a:pt x="6589" y="16209"/>
                </a:cubicBezTo>
                <a:cubicBezTo>
                  <a:pt x="6610" y="16223"/>
                  <a:pt x="6635" y="16229"/>
                  <a:pt x="6656" y="16243"/>
                </a:cubicBezTo>
                <a:cubicBezTo>
                  <a:pt x="6685" y="16262"/>
                  <a:pt x="6711" y="16281"/>
                  <a:pt x="6740" y="16298"/>
                </a:cubicBezTo>
                <a:cubicBezTo>
                  <a:pt x="6753" y="16306"/>
                  <a:pt x="6764" y="16312"/>
                  <a:pt x="6777" y="16320"/>
                </a:cubicBezTo>
                <a:cubicBezTo>
                  <a:pt x="6802" y="16335"/>
                  <a:pt x="6827" y="16346"/>
                  <a:pt x="6853" y="16361"/>
                </a:cubicBezTo>
                <a:cubicBezTo>
                  <a:pt x="6891" y="16383"/>
                  <a:pt x="6920" y="16405"/>
                  <a:pt x="6954" y="16430"/>
                </a:cubicBezTo>
                <a:cubicBezTo>
                  <a:pt x="7013" y="16472"/>
                  <a:pt x="7062" y="16494"/>
                  <a:pt x="7129" y="16517"/>
                </a:cubicBezTo>
                <a:cubicBezTo>
                  <a:pt x="7140" y="16521"/>
                  <a:pt x="7157" y="16526"/>
                  <a:pt x="7165" y="16529"/>
                </a:cubicBezTo>
                <a:cubicBezTo>
                  <a:pt x="7190" y="16537"/>
                  <a:pt x="7215" y="16545"/>
                  <a:pt x="7237" y="16551"/>
                </a:cubicBezTo>
                <a:cubicBezTo>
                  <a:pt x="7241" y="16552"/>
                  <a:pt x="7251" y="16551"/>
                  <a:pt x="7257" y="16553"/>
                </a:cubicBezTo>
                <a:cubicBezTo>
                  <a:pt x="7246" y="16523"/>
                  <a:pt x="7244" y="16491"/>
                  <a:pt x="7229" y="16459"/>
                </a:cubicBezTo>
                <a:cubicBezTo>
                  <a:pt x="7172" y="16337"/>
                  <a:pt x="7075" y="16235"/>
                  <a:pt x="7013" y="16115"/>
                </a:cubicBezTo>
                <a:cubicBezTo>
                  <a:pt x="7005" y="16100"/>
                  <a:pt x="6998" y="16083"/>
                  <a:pt x="6991" y="16069"/>
                </a:cubicBezTo>
                <a:cubicBezTo>
                  <a:pt x="6991" y="16068"/>
                  <a:pt x="6991" y="16068"/>
                  <a:pt x="6991" y="16067"/>
                </a:cubicBezTo>
                <a:cubicBezTo>
                  <a:pt x="6996" y="16074"/>
                  <a:pt x="7002" y="16081"/>
                  <a:pt x="7008" y="16089"/>
                </a:cubicBezTo>
                <a:cubicBezTo>
                  <a:pt x="7061" y="16158"/>
                  <a:pt x="7117" y="16227"/>
                  <a:pt x="7163" y="16300"/>
                </a:cubicBezTo>
                <a:cubicBezTo>
                  <a:pt x="7187" y="16339"/>
                  <a:pt x="7208" y="16383"/>
                  <a:pt x="7225" y="16423"/>
                </a:cubicBezTo>
                <a:cubicBezTo>
                  <a:pt x="7232" y="16438"/>
                  <a:pt x="7233" y="16461"/>
                  <a:pt x="7237" y="16471"/>
                </a:cubicBezTo>
                <a:cubicBezTo>
                  <a:pt x="7241" y="16481"/>
                  <a:pt x="7248" y="16488"/>
                  <a:pt x="7252" y="16498"/>
                </a:cubicBezTo>
                <a:cubicBezTo>
                  <a:pt x="7255" y="16507"/>
                  <a:pt x="7259" y="16519"/>
                  <a:pt x="7261" y="16529"/>
                </a:cubicBezTo>
                <a:cubicBezTo>
                  <a:pt x="7263" y="16537"/>
                  <a:pt x="7274" y="16551"/>
                  <a:pt x="7274" y="16558"/>
                </a:cubicBezTo>
                <a:cubicBezTo>
                  <a:pt x="7271" y="16601"/>
                  <a:pt x="7267" y="16601"/>
                  <a:pt x="7234" y="16635"/>
                </a:cubicBezTo>
                <a:cubicBezTo>
                  <a:pt x="7165" y="16705"/>
                  <a:pt x="7060" y="16753"/>
                  <a:pt x="6986" y="16825"/>
                </a:cubicBezTo>
                <a:cubicBezTo>
                  <a:pt x="6942" y="16867"/>
                  <a:pt x="6903" y="16913"/>
                  <a:pt x="6863" y="16955"/>
                </a:cubicBezTo>
                <a:cubicBezTo>
                  <a:pt x="6849" y="16970"/>
                  <a:pt x="6833" y="16991"/>
                  <a:pt x="6821" y="17003"/>
                </a:cubicBezTo>
                <a:cubicBezTo>
                  <a:pt x="6820" y="17003"/>
                  <a:pt x="6819" y="17003"/>
                  <a:pt x="6818" y="17003"/>
                </a:cubicBezTo>
                <a:cubicBezTo>
                  <a:pt x="6840" y="16952"/>
                  <a:pt x="6861" y="16900"/>
                  <a:pt x="6892" y="16849"/>
                </a:cubicBezTo>
                <a:cubicBezTo>
                  <a:pt x="6934" y="16780"/>
                  <a:pt x="6983" y="16720"/>
                  <a:pt x="7035" y="16659"/>
                </a:cubicBezTo>
                <a:cubicBezTo>
                  <a:pt x="7040" y="16654"/>
                  <a:pt x="7045" y="16649"/>
                  <a:pt x="7050" y="166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PowerPoint Window</a:t>
            </a: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3520" y="1905120"/>
            <a:ext cx="18288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New Slide Butt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ustom Animations Butt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ext Box Butt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WordArt Butt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9800" y="2022480"/>
            <a:ext cx="849240" cy="297000"/>
          </a:xfrm>
          <a:custGeom>
            <a:avLst/>
            <a:gdLst/>
            <a:ahLst/>
            <a:rect l="l" t="t" r="r" b="b"/>
            <a:pathLst>
              <a:path w="2361" h="822">
                <a:moveTo>
                  <a:pt x="7581" y="5634"/>
                </a:moveTo>
                <a:cubicBezTo>
                  <a:pt x="7580" y="5631"/>
                  <a:pt x="7580" y="5627"/>
                  <a:pt x="7579" y="5624"/>
                </a:cubicBezTo>
                <a:cubicBezTo>
                  <a:pt x="7571" y="5623"/>
                  <a:pt x="7566" y="5623"/>
                  <a:pt x="7559" y="5622"/>
                </a:cubicBezTo>
                <a:cubicBezTo>
                  <a:pt x="7555" y="5621"/>
                  <a:pt x="7548" y="5619"/>
                  <a:pt x="7542" y="5619"/>
                </a:cubicBezTo>
                <a:cubicBezTo>
                  <a:pt x="7509" y="5618"/>
                  <a:pt x="7476" y="5617"/>
                  <a:pt x="7444" y="5624"/>
                </a:cubicBezTo>
                <a:cubicBezTo>
                  <a:pt x="7433" y="5626"/>
                  <a:pt x="7421" y="5632"/>
                  <a:pt x="7409" y="5634"/>
                </a:cubicBezTo>
                <a:cubicBezTo>
                  <a:pt x="7394" y="5637"/>
                  <a:pt x="7384" y="5639"/>
                  <a:pt x="7370" y="5644"/>
                </a:cubicBezTo>
                <a:cubicBezTo>
                  <a:pt x="7359" y="5648"/>
                  <a:pt x="7349" y="5653"/>
                  <a:pt x="7338" y="5656"/>
                </a:cubicBezTo>
                <a:cubicBezTo>
                  <a:pt x="7318" y="5662"/>
                  <a:pt x="7296" y="5667"/>
                  <a:pt x="7279" y="5680"/>
                </a:cubicBezTo>
                <a:cubicBezTo>
                  <a:pt x="7269" y="5687"/>
                  <a:pt x="7257" y="5697"/>
                  <a:pt x="7249" y="5706"/>
                </a:cubicBezTo>
                <a:cubicBezTo>
                  <a:pt x="7241" y="5715"/>
                  <a:pt x="7235" y="5725"/>
                  <a:pt x="7227" y="5733"/>
                </a:cubicBezTo>
                <a:cubicBezTo>
                  <a:pt x="7219" y="5742"/>
                  <a:pt x="7209" y="5752"/>
                  <a:pt x="7205" y="5761"/>
                </a:cubicBezTo>
                <a:cubicBezTo>
                  <a:pt x="7199" y="5772"/>
                  <a:pt x="7197" y="5783"/>
                  <a:pt x="7193" y="5795"/>
                </a:cubicBezTo>
                <a:cubicBezTo>
                  <a:pt x="7189" y="5806"/>
                  <a:pt x="7184" y="5817"/>
                  <a:pt x="7183" y="5829"/>
                </a:cubicBezTo>
                <a:cubicBezTo>
                  <a:pt x="7182" y="5839"/>
                  <a:pt x="7180" y="5850"/>
                  <a:pt x="7180" y="5860"/>
                </a:cubicBezTo>
                <a:cubicBezTo>
                  <a:pt x="7179" y="5888"/>
                  <a:pt x="7177" y="5920"/>
                  <a:pt x="7183" y="5947"/>
                </a:cubicBezTo>
                <a:cubicBezTo>
                  <a:pt x="7185" y="5955"/>
                  <a:pt x="7188" y="5965"/>
                  <a:pt x="7193" y="5971"/>
                </a:cubicBezTo>
                <a:cubicBezTo>
                  <a:pt x="7197" y="5977"/>
                  <a:pt x="7205" y="5984"/>
                  <a:pt x="7210" y="5990"/>
                </a:cubicBezTo>
                <a:cubicBezTo>
                  <a:pt x="7216" y="5997"/>
                  <a:pt x="7220" y="6000"/>
                  <a:pt x="7227" y="6007"/>
                </a:cubicBezTo>
                <a:cubicBezTo>
                  <a:pt x="7234" y="6014"/>
                  <a:pt x="7242" y="6020"/>
                  <a:pt x="7249" y="6026"/>
                </a:cubicBezTo>
                <a:cubicBezTo>
                  <a:pt x="7256" y="6032"/>
                  <a:pt x="7264" y="6043"/>
                  <a:pt x="7271" y="6048"/>
                </a:cubicBezTo>
                <a:cubicBezTo>
                  <a:pt x="7281" y="6055"/>
                  <a:pt x="7296" y="6059"/>
                  <a:pt x="7306" y="6067"/>
                </a:cubicBezTo>
                <a:cubicBezTo>
                  <a:pt x="7312" y="6072"/>
                  <a:pt x="7320" y="6079"/>
                  <a:pt x="7328" y="6084"/>
                </a:cubicBezTo>
                <a:cubicBezTo>
                  <a:pt x="7339" y="6090"/>
                  <a:pt x="7356" y="6096"/>
                  <a:pt x="7367" y="6098"/>
                </a:cubicBezTo>
                <a:cubicBezTo>
                  <a:pt x="7377" y="6099"/>
                  <a:pt x="7390" y="6102"/>
                  <a:pt x="7399" y="6103"/>
                </a:cubicBezTo>
                <a:cubicBezTo>
                  <a:pt x="7413" y="6104"/>
                  <a:pt x="7427" y="6103"/>
                  <a:pt x="7441" y="6105"/>
                </a:cubicBezTo>
                <a:cubicBezTo>
                  <a:pt x="7453" y="6106"/>
                  <a:pt x="7459" y="6109"/>
                  <a:pt x="7471" y="6110"/>
                </a:cubicBezTo>
                <a:cubicBezTo>
                  <a:pt x="7499" y="6112"/>
                  <a:pt x="7527" y="6111"/>
                  <a:pt x="7552" y="6103"/>
                </a:cubicBezTo>
                <a:cubicBezTo>
                  <a:pt x="7565" y="6099"/>
                  <a:pt x="7577" y="6092"/>
                  <a:pt x="7589" y="6084"/>
                </a:cubicBezTo>
                <a:cubicBezTo>
                  <a:pt x="7595" y="6080"/>
                  <a:pt x="7602" y="6074"/>
                  <a:pt x="7606" y="6069"/>
                </a:cubicBezTo>
                <a:cubicBezTo>
                  <a:pt x="7610" y="6064"/>
                  <a:pt x="7614" y="6059"/>
                  <a:pt x="7618" y="6055"/>
                </a:cubicBezTo>
                <a:cubicBezTo>
                  <a:pt x="7626" y="6046"/>
                  <a:pt x="7631" y="6037"/>
                  <a:pt x="7638" y="6028"/>
                </a:cubicBezTo>
                <a:cubicBezTo>
                  <a:pt x="7641" y="6023"/>
                  <a:pt x="7646" y="6017"/>
                  <a:pt x="7648" y="6012"/>
                </a:cubicBezTo>
                <a:cubicBezTo>
                  <a:pt x="7651" y="6005"/>
                  <a:pt x="7650" y="5998"/>
                  <a:pt x="7653" y="5990"/>
                </a:cubicBezTo>
                <a:cubicBezTo>
                  <a:pt x="7655" y="5984"/>
                  <a:pt x="7656" y="5977"/>
                  <a:pt x="7658" y="5971"/>
                </a:cubicBezTo>
                <a:cubicBezTo>
                  <a:pt x="7660" y="5966"/>
                  <a:pt x="7661" y="5969"/>
                  <a:pt x="7663" y="5961"/>
                </a:cubicBezTo>
                <a:cubicBezTo>
                  <a:pt x="7664" y="5954"/>
                  <a:pt x="7665" y="5946"/>
                  <a:pt x="7665" y="5939"/>
                </a:cubicBezTo>
                <a:cubicBezTo>
                  <a:pt x="7668" y="5895"/>
                  <a:pt x="7671" y="5836"/>
                  <a:pt x="7660" y="5795"/>
                </a:cubicBezTo>
                <a:cubicBezTo>
                  <a:pt x="7658" y="5788"/>
                  <a:pt x="7657" y="5782"/>
                  <a:pt x="7655" y="5776"/>
                </a:cubicBezTo>
                <a:cubicBezTo>
                  <a:pt x="7653" y="5769"/>
                  <a:pt x="7650" y="5767"/>
                  <a:pt x="7648" y="5759"/>
                </a:cubicBezTo>
                <a:cubicBezTo>
                  <a:pt x="7647" y="5754"/>
                  <a:pt x="7647" y="5750"/>
                  <a:pt x="7645" y="5745"/>
                </a:cubicBezTo>
                <a:cubicBezTo>
                  <a:pt x="7643" y="5740"/>
                  <a:pt x="7638" y="5737"/>
                  <a:pt x="7636" y="5733"/>
                </a:cubicBezTo>
                <a:cubicBezTo>
                  <a:pt x="7634" y="5729"/>
                  <a:pt x="7630" y="5721"/>
                  <a:pt x="7628" y="5718"/>
                </a:cubicBezTo>
                <a:cubicBezTo>
                  <a:pt x="7625" y="5714"/>
                  <a:pt x="7622" y="5712"/>
                  <a:pt x="7618" y="5706"/>
                </a:cubicBezTo>
                <a:cubicBezTo>
                  <a:pt x="7616" y="5703"/>
                  <a:pt x="7614" y="5697"/>
                  <a:pt x="7611" y="5694"/>
                </a:cubicBezTo>
                <a:cubicBezTo>
                  <a:pt x="7605" y="5688"/>
                  <a:pt x="7596" y="5684"/>
                  <a:pt x="7591" y="5680"/>
                </a:cubicBezTo>
                <a:cubicBezTo>
                  <a:pt x="7586" y="5676"/>
                  <a:pt x="7582" y="5671"/>
                  <a:pt x="7577" y="5668"/>
                </a:cubicBezTo>
                <a:cubicBezTo>
                  <a:pt x="7575" y="5667"/>
                  <a:pt x="7569" y="5666"/>
                  <a:pt x="7567" y="5665"/>
                </a:cubicBezTo>
                <a:cubicBezTo>
                  <a:pt x="7560" y="5663"/>
                  <a:pt x="7555" y="5664"/>
                  <a:pt x="7547" y="5663"/>
                </a:cubicBezTo>
              </a:path>
              <a:path w="2361" h="822">
                <a:moveTo>
                  <a:pt x="7215" y="6000"/>
                </a:moveTo>
                <a:cubicBezTo>
                  <a:pt x="7210" y="5998"/>
                  <a:pt x="7213" y="5985"/>
                  <a:pt x="7205" y="5983"/>
                </a:cubicBezTo>
                <a:cubicBezTo>
                  <a:pt x="7184" y="5979"/>
                  <a:pt x="7153" y="5985"/>
                  <a:pt x="7133" y="5988"/>
                </a:cubicBezTo>
                <a:cubicBezTo>
                  <a:pt x="7114" y="5991"/>
                  <a:pt x="7096" y="5997"/>
                  <a:pt x="7077" y="6000"/>
                </a:cubicBezTo>
                <a:cubicBezTo>
                  <a:pt x="7052" y="6004"/>
                  <a:pt x="7028" y="6009"/>
                  <a:pt x="7003" y="6014"/>
                </a:cubicBezTo>
                <a:cubicBezTo>
                  <a:pt x="6971" y="6020"/>
                  <a:pt x="6939" y="6024"/>
                  <a:pt x="6907" y="6031"/>
                </a:cubicBezTo>
                <a:cubicBezTo>
                  <a:pt x="6859" y="6041"/>
                  <a:pt x="6811" y="6058"/>
                  <a:pt x="6762" y="6065"/>
                </a:cubicBezTo>
                <a:cubicBezTo>
                  <a:pt x="6730" y="6070"/>
                  <a:pt x="6698" y="6073"/>
                  <a:pt x="6666" y="6079"/>
                </a:cubicBezTo>
                <a:cubicBezTo>
                  <a:pt x="6628" y="6085"/>
                  <a:pt x="6591" y="6091"/>
                  <a:pt x="6553" y="6096"/>
                </a:cubicBezTo>
                <a:cubicBezTo>
                  <a:pt x="6493" y="6104"/>
                  <a:pt x="6437" y="6113"/>
                  <a:pt x="6378" y="6125"/>
                </a:cubicBezTo>
                <a:cubicBezTo>
                  <a:pt x="6324" y="6136"/>
                  <a:pt x="6269" y="6142"/>
                  <a:pt x="6215" y="6154"/>
                </a:cubicBezTo>
                <a:cubicBezTo>
                  <a:pt x="6184" y="6161"/>
                  <a:pt x="6154" y="6170"/>
                  <a:pt x="6124" y="6178"/>
                </a:cubicBezTo>
                <a:cubicBezTo>
                  <a:pt x="6086" y="6188"/>
                  <a:pt x="6048" y="6199"/>
                  <a:pt x="6011" y="6209"/>
                </a:cubicBezTo>
                <a:cubicBezTo>
                  <a:pt x="5980" y="6217"/>
                  <a:pt x="5949" y="6224"/>
                  <a:pt x="5918" y="6233"/>
                </a:cubicBezTo>
                <a:cubicBezTo>
                  <a:pt x="5889" y="6241"/>
                  <a:pt x="5860" y="6250"/>
                  <a:pt x="5831" y="6259"/>
                </a:cubicBezTo>
                <a:cubicBezTo>
                  <a:pt x="5805" y="6267"/>
                  <a:pt x="5779" y="6272"/>
                  <a:pt x="5753" y="6279"/>
                </a:cubicBezTo>
                <a:cubicBezTo>
                  <a:pt x="5681" y="6300"/>
                  <a:pt x="5607" y="6316"/>
                  <a:pt x="5536" y="6341"/>
                </a:cubicBezTo>
                <a:cubicBezTo>
                  <a:pt x="5519" y="6347"/>
                  <a:pt x="5504" y="6353"/>
                  <a:pt x="5487" y="6358"/>
                </a:cubicBezTo>
                <a:cubicBezTo>
                  <a:pt x="5463" y="6365"/>
                  <a:pt x="5442" y="6375"/>
                  <a:pt x="5420" y="6384"/>
                </a:cubicBezTo>
                <a:cubicBezTo>
                  <a:pt x="5412" y="6387"/>
                  <a:pt x="5398" y="6394"/>
                  <a:pt x="5391" y="6397"/>
                </a:cubicBezTo>
                <a:cubicBezTo>
                  <a:pt x="5377" y="6402"/>
                  <a:pt x="5363" y="6406"/>
                  <a:pt x="5349" y="6411"/>
                </a:cubicBezTo>
                <a:cubicBezTo>
                  <a:pt x="5343" y="6413"/>
                  <a:pt x="5332" y="6418"/>
                  <a:pt x="5327" y="6421"/>
                </a:cubicBezTo>
                <a:cubicBezTo>
                  <a:pt x="5322" y="6424"/>
                  <a:pt x="5315" y="6426"/>
                  <a:pt x="5312" y="6428"/>
                </a:cubicBezTo>
                <a:cubicBezTo>
                  <a:pt x="5307" y="6431"/>
                  <a:pt x="5307" y="6438"/>
                  <a:pt x="5305" y="64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62440" y="2363760"/>
            <a:ext cx="255600" cy="185760"/>
          </a:xfrm>
          <a:custGeom>
            <a:avLst/>
            <a:gdLst/>
            <a:ahLst/>
            <a:rect l="l" t="t" r="r" b="b"/>
            <a:pathLst>
              <a:path w="710" h="518">
                <a:moveTo>
                  <a:pt x="13831" y="6608"/>
                </a:moveTo>
                <a:cubicBezTo>
                  <a:pt x="13828" y="6605"/>
                  <a:pt x="13824" y="6597"/>
                  <a:pt x="13821" y="6596"/>
                </a:cubicBezTo>
                <a:cubicBezTo>
                  <a:pt x="13815" y="6593"/>
                  <a:pt x="13811" y="6593"/>
                  <a:pt x="13804" y="6591"/>
                </a:cubicBezTo>
                <a:cubicBezTo>
                  <a:pt x="13798" y="6589"/>
                  <a:pt x="13787" y="6589"/>
                  <a:pt x="13782" y="6587"/>
                </a:cubicBezTo>
                <a:cubicBezTo>
                  <a:pt x="13774" y="6584"/>
                  <a:pt x="13770" y="6578"/>
                  <a:pt x="13762" y="6575"/>
                </a:cubicBezTo>
                <a:cubicBezTo>
                  <a:pt x="13755" y="6573"/>
                  <a:pt x="13748" y="6571"/>
                  <a:pt x="13740" y="6570"/>
                </a:cubicBezTo>
                <a:cubicBezTo>
                  <a:pt x="13731" y="6568"/>
                  <a:pt x="13719" y="6568"/>
                  <a:pt x="13710" y="6567"/>
                </a:cubicBezTo>
                <a:cubicBezTo>
                  <a:pt x="13701" y="6566"/>
                  <a:pt x="13692" y="6565"/>
                  <a:pt x="13683" y="6565"/>
                </a:cubicBezTo>
                <a:cubicBezTo>
                  <a:pt x="13629" y="6562"/>
                  <a:pt x="13568" y="6559"/>
                  <a:pt x="13516" y="6570"/>
                </a:cubicBezTo>
                <a:cubicBezTo>
                  <a:pt x="13504" y="6573"/>
                  <a:pt x="13492" y="6576"/>
                  <a:pt x="13479" y="6579"/>
                </a:cubicBezTo>
                <a:cubicBezTo>
                  <a:pt x="13467" y="6582"/>
                  <a:pt x="13456" y="6586"/>
                  <a:pt x="13445" y="6589"/>
                </a:cubicBezTo>
                <a:cubicBezTo>
                  <a:pt x="13435" y="6592"/>
                  <a:pt x="13425" y="6596"/>
                  <a:pt x="13415" y="6599"/>
                </a:cubicBezTo>
                <a:cubicBezTo>
                  <a:pt x="13401" y="6603"/>
                  <a:pt x="13389" y="6607"/>
                  <a:pt x="13376" y="6613"/>
                </a:cubicBezTo>
                <a:cubicBezTo>
                  <a:pt x="13364" y="6618"/>
                  <a:pt x="13356" y="6625"/>
                  <a:pt x="13346" y="6632"/>
                </a:cubicBezTo>
                <a:cubicBezTo>
                  <a:pt x="13335" y="6640"/>
                  <a:pt x="13325" y="6648"/>
                  <a:pt x="13314" y="6656"/>
                </a:cubicBezTo>
                <a:cubicBezTo>
                  <a:pt x="13304" y="6664"/>
                  <a:pt x="13294" y="6671"/>
                  <a:pt x="13285" y="6680"/>
                </a:cubicBezTo>
                <a:cubicBezTo>
                  <a:pt x="13274" y="6691"/>
                  <a:pt x="13269" y="6702"/>
                  <a:pt x="13260" y="6714"/>
                </a:cubicBezTo>
                <a:cubicBezTo>
                  <a:pt x="13247" y="6731"/>
                  <a:pt x="13239" y="6744"/>
                  <a:pt x="13235" y="6765"/>
                </a:cubicBezTo>
                <a:cubicBezTo>
                  <a:pt x="13232" y="6778"/>
                  <a:pt x="13233" y="6790"/>
                  <a:pt x="13233" y="6805"/>
                </a:cubicBezTo>
                <a:cubicBezTo>
                  <a:pt x="13233" y="6837"/>
                  <a:pt x="13229" y="6871"/>
                  <a:pt x="13238" y="6902"/>
                </a:cubicBezTo>
                <a:cubicBezTo>
                  <a:pt x="13244" y="6922"/>
                  <a:pt x="13258" y="6943"/>
                  <a:pt x="13270" y="6959"/>
                </a:cubicBezTo>
                <a:cubicBezTo>
                  <a:pt x="13279" y="6971"/>
                  <a:pt x="13292" y="6981"/>
                  <a:pt x="13302" y="6993"/>
                </a:cubicBezTo>
                <a:cubicBezTo>
                  <a:pt x="13315" y="7008"/>
                  <a:pt x="13326" y="7023"/>
                  <a:pt x="13341" y="7036"/>
                </a:cubicBezTo>
                <a:cubicBezTo>
                  <a:pt x="13354" y="7047"/>
                  <a:pt x="13368" y="7058"/>
                  <a:pt x="13383" y="7065"/>
                </a:cubicBezTo>
                <a:cubicBezTo>
                  <a:pt x="13401" y="7073"/>
                  <a:pt x="13421" y="7077"/>
                  <a:pt x="13440" y="7080"/>
                </a:cubicBezTo>
                <a:cubicBezTo>
                  <a:pt x="13463" y="7084"/>
                  <a:pt x="13487" y="7082"/>
                  <a:pt x="13511" y="7082"/>
                </a:cubicBezTo>
                <a:cubicBezTo>
                  <a:pt x="13556" y="7082"/>
                  <a:pt x="13594" y="7079"/>
                  <a:pt x="13637" y="7065"/>
                </a:cubicBezTo>
                <a:cubicBezTo>
                  <a:pt x="13659" y="7058"/>
                  <a:pt x="13680" y="7048"/>
                  <a:pt x="13701" y="7039"/>
                </a:cubicBezTo>
                <a:cubicBezTo>
                  <a:pt x="13726" y="7029"/>
                  <a:pt x="13749" y="7018"/>
                  <a:pt x="13772" y="7003"/>
                </a:cubicBezTo>
                <a:cubicBezTo>
                  <a:pt x="13790" y="6991"/>
                  <a:pt x="13807" y="6978"/>
                  <a:pt x="13824" y="6964"/>
                </a:cubicBezTo>
                <a:cubicBezTo>
                  <a:pt x="13841" y="6949"/>
                  <a:pt x="13857" y="6932"/>
                  <a:pt x="13873" y="6916"/>
                </a:cubicBezTo>
                <a:cubicBezTo>
                  <a:pt x="13886" y="6903"/>
                  <a:pt x="13894" y="6889"/>
                  <a:pt x="13905" y="6875"/>
                </a:cubicBezTo>
                <a:cubicBezTo>
                  <a:pt x="13913" y="6864"/>
                  <a:pt x="13919" y="6856"/>
                  <a:pt x="13925" y="6844"/>
                </a:cubicBezTo>
                <a:cubicBezTo>
                  <a:pt x="13932" y="6830"/>
                  <a:pt x="13937" y="6817"/>
                  <a:pt x="13939" y="6801"/>
                </a:cubicBezTo>
                <a:cubicBezTo>
                  <a:pt x="13941" y="6786"/>
                  <a:pt x="13937" y="6772"/>
                  <a:pt x="13937" y="6757"/>
                </a:cubicBezTo>
                <a:cubicBezTo>
                  <a:pt x="13937" y="6744"/>
                  <a:pt x="13937" y="6733"/>
                  <a:pt x="13934" y="6721"/>
                </a:cubicBezTo>
                <a:cubicBezTo>
                  <a:pt x="13932" y="6712"/>
                  <a:pt x="13926" y="6705"/>
                  <a:pt x="13922" y="6697"/>
                </a:cubicBezTo>
                <a:cubicBezTo>
                  <a:pt x="13917" y="6688"/>
                  <a:pt x="13911" y="6675"/>
                  <a:pt x="13902" y="6668"/>
                </a:cubicBezTo>
                <a:cubicBezTo>
                  <a:pt x="13891" y="6660"/>
                  <a:pt x="13887" y="6662"/>
                  <a:pt x="13875" y="6656"/>
                </a:cubicBezTo>
                <a:cubicBezTo>
                  <a:pt x="13863" y="6650"/>
                  <a:pt x="13856" y="6646"/>
                  <a:pt x="13843" y="6644"/>
                </a:cubicBezTo>
                <a:cubicBezTo>
                  <a:pt x="13833" y="6642"/>
                  <a:pt x="13821" y="6643"/>
                  <a:pt x="13811" y="6642"/>
                </a:cubicBezTo>
                <a:cubicBezTo>
                  <a:pt x="13800" y="6641"/>
                  <a:pt x="13790" y="6640"/>
                  <a:pt x="13779" y="6639"/>
                </a:cubicBezTo>
                <a:cubicBezTo>
                  <a:pt x="13734" y="6637"/>
                  <a:pt x="13688" y="6638"/>
                  <a:pt x="13644" y="66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84440" y="5500800"/>
            <a:ext cx="3084480" cy="704880"/>
          </a:xfrm>
          <a:custGeom>
            <a:avLst/>
            <a:gdLst/>
            <a:ahLst/>
            <a:rect l="l" t="t" r="r" b="b"/>
            <a:pathLst>
              <a:path w="8572" h="1957">
                <a:moveTo>
                  <a:pt x="12371" y="16173"/>
                </a:moveTo>
                <a:cubicBezTo>
                  <a:pt x="12362" y="16172"/>
                  <a:pt x="12356" y="16169"/>
                  <a:pt x="12347" y="16168"/>
                </a:cubicBezTo>
                <a:cubicBezTo>
                  <a:pt x="12310" y="16165"/>
                  <a:pt x="12249" y="16159"/>
                  <a:pt x="12216" y="16175"/>
                </a:cubicBezTo>
                <a:cubicBezTo>
                  <a:pt x="12209" y="16179"/>
                  <a:pt x="12203" y="16185"/>
                  <a:pt x="12197" y="16190"/>
                </a:cubicBezTo>
                <a:cubicBezTo>
                  <a:pt x="12190" y="16196"/>
                  <a:pt x="12181" y="16205"/>
                  <a:pt x="12174" y="16211"/>
                </a:cubicBezTo>
                <a:cubicBezTo>
                  <a:pt x="12162" y="16222"/>
                  <a:pt x="12154" y="16234"/>
                  <a:pt x="12145" y="16247"/>
                </a:cubicBezTo>
                <a:cubicBezTo>
                  <a:pt x="12137" y="16259"/>
                  <a:pt x="12125" y="16273"/>
                  <a:pt x="12118" y="16286"/>
                </a:cubicBezTo>
                <a:cubicBezTo>
                  <a:pt x="12112" y="16297"/>
                  <a:pt x="12108" y="16310"/>
                  <a:pt x="12103" y="16322"/>
                </a:cubicBezTo>
                <a:cubicBezTo>
                  <a:pt x="12097" y="16337"/>
                  <a:pt x="12088" y="16353"/>
                  <a:pt x="12083" y="16368"/>
                </a:cubicBezTo>
                <a:cubicBezTo>
                  <a:pt x="12075" y="16394"/>
                  <a:pt x="12070" y="16424"/>
                  <a:pt x="12066" y="16450"/>
                </a:cubicBezTo>
                <a:cubicBezTo>
                  <a:pt x="12063" y="16468"/>
                  <a:pt x="12058" y="16488"/>
                  <a:pt x="12056" y="16507"/>
                </a:cubicBezTo>
                <a:cubicBezTo>
                  <a:pt x="12052" y="16541"/>
                  <a:pt x="12057" y="16574"/>
                  <a:pt x="12056" y="16608"/>
                </a:cubicBezTo>
                <a:cubicBezTo>
                  <a:pt x="12055" y="16627"/>
                  <a:pt x="12053" y="16645"/>
                  <a:pt x="12054" y="16664"/>
                </a:cubicBezTo>
                <a:cubicBezTo>
                  <a:pt x="12055" y="16682"/>
                  <a:pt x="12058" y="16697"/>
                  <a:pt x="12061" y="16714"/>
                </a:cubicBezTo>
                <a:cubicBezTo>
                  <a:pt x="12064" y="16731"/>
                  <a:pt x="12069" y="16749"/>
                  <a:pt x="12071" y="16765"/>
                </a:cubicBezTo>
                <a:cubicBezTo>
                  <a:pt x="12072" y="16779"/>
                  <a:pt x="12074" y="16789"/>
                  <a:pt x="12078" y="16803"/>
                </a:cubicBezTo>
                <a:cubicBezTo>
                  <a:pt x="12082" y="16817"/>
                  <a:pt x="12086" y="16831"/>
                  <a:pt x="12093" y="16844"/>
                </a:cubicBezTo>
                <a:cubicBezTo>
                  <a:pt x="12101" y="16859"/>
                  <a:pt x="12110" y="16874"/>
                  <a:pt x="12120" y="16887"/>
                </a:cubicBezTo>
                <a:cubicBezTo>
                  <a:pt x="12128" y="16898"/>
                  <a:pt x="12132" y="16907"/>
                  <a:pt x="12142" y="16916"/>
                </a:cubicBezTo>
                <a:cubicBezTo>
                  <a:pt x="12159" y="16932"/>
                  <a:pt x="12178" y="16951"/>
                  <a:pt x="12197" y="16964"/>
                </a:cubicBezTo>
                <a:cubicBezTo>
                  <a:pt x="12206" y="16970"/>
                  <a:pt x="12217" y="16972"/>
                  <a:pt x="12226" y="16976"/>
                </a:cubicBezTo>
                <a:cubicBezTo>
                  <a:pt x="12252" y="16988"/>
                  <a:pt x="12274" y="16986"/>
                  <a:pt x="12302" y="16986"/>
                </a:cubicBezTo>
                <a:cubicBezTo>
                  <a:pt x="12314" y="16986"/>
                  <a:pt x="12332" y="16988"/>
                  <a:pt x="12344" y="16984"/>
                </a:cubicBezTo>
                <a:cubicBezTo>
                  <a:pt x="12355" y="16980"/>
                  <a:pt x="12366" y="16973"/>
                  <a:pt x="12376" y="16967"/>
                </a:cubicBezTo>
                <a:cubicBezTo>
                  <a:pt x="12394" y="16957"/>
                  <a:pt x="12407" y="16946"/>
                  <a:pt x="12421" y="16933"/>
                </a:cubicBezTo>
                <a:cubicBezTo>
                  <a:pt x="12430" y="16924"/>
                  <a:pt x="12442" y="16916"/>
                  <a:pt x="12450" y="16907"/>
                </a:cubicBezTo>
                <a:cubicBezTo>
                  <a:pt x="12461" y="16894"/>
                  <a:pt x="12468" y="16880"/>
                  <a:pt x="12477" y="16866"/>
                </a:cubicBezTo>
                <a:cubicBezTo>
                  <a:pt x="12485" y="16854"/>
                  <a:pt x="12491" y="16843"/>
                  <a:pt x="12497" y="16830"/>
                </a:cubicBezTo>
                <a:cubicBezTo>
                  <a:pt x="12502" y="16818"/>
                  <a:pt x="12509" y="16806"/>
                  <a:pt x="12514" y="16794"/>
                </a:cubicBezTo>
                <a:cubicBezTo>
                  <a:pt x="12521" y="16777"/>
                  <a:pt x="12525" y="16761"/>
                  <a:pt x="12529" y="16743"/>
                </a:cubicBezTo>
                <a:cubicBezTo>
                  <a:pt x="12533" y="16724"/>
                  <a:pt x="12539" y="16706"/>
                  <a:pt x="12544" y="16688"/>
                </a:cubicBezTo>
                <a:cubicBezTo>
                  <a:pt x="12548" y="16674"/>
                  <a:pt x="12548" y="16660"/>
                  <a:pt x="12551" y="16647"/>
                </a:cubicBezTo>
                <a:cubicBezTo>
                  <a:pt x="12554" y="16634"/>
                  <a:pt x="12558" y="16621"/>
                  <a:pt x="12561" y="16608"/>
                </a:cubicBezTo>
                <a:cubicBezTo>
                  <a:pt x="12566" y="16589"/>
                  <a:pt x="12567" y="16573"/>
                  <a:pt x="12568" y="16553"/>
                </a:cubicBezTo>
                <a:cubicBezTo>
                  <a:pt x="12569" y="16531"/>
                  <a:pt x="12574" y="16518"/>
                  <a:pt x="12578" y="16498"/>
                </a:cubicBezTo>
                <a:cubicBezTo>
                  <a:pt x="12580" y="16488"/>
                  <a:pt x="12579" y="16476"/>
                  <a:pt x="12581" y="16466"/>
                </a:cubicBezTo>
                <a:cubicBezTo>
                  <a:pt x="12583" y="16455"/>
                  <a:pt x="12588" y="16446"/>
                  <a:pt x="12590" y="16435"/>
                </a:cubicBezTo>
                <a:cubicBezTo>
                  <a:pt x="12592" y="16425"/>
                  <a:pt x="12592" y="16415"/>
                  <a:pt x="12593" y="16404"/>
                </a:cubicBezTo>
                <a:cubicBezTo>
                  <a:pt x="12594" y="16394"/>
                  <a:pt x="12599" y="16382"/>
                  <a:pt x="12600" y="16373"/>
                </a:cubicBezTo>
                <a:cubicBezTo>
                  <a:pt x="12603" y="16344"/>
                  <a:pt x="12604" y="16308"/>
                  <a:pt x="12603" y="16279"/>
                </a:cubicBezTo>
                <a:cubicBezTo>
                  <a:pt x="12603" y="16267"/>
                  <a:pt x="12602" y="16258"/>
                  <a:pt x="12598" y="16247"/>
                </a:cubicBezTo>
                <a:cubicBezTo>
                  <a:pt x="12595" y="16239"/>
                  <a:pt x="12592" y="16230"/>
                  <a:pt x="12586" y="16223"/>
                </a:cubicBezTo>
                <a:cubicBezTo>
                  <a:pt x="12578" y="16213"/>
                  <a:pt x="12571" y="16204"/>
                  <a:pt x="12563" y="16195"/>
                </a:cubicBezTo>
                <a:cubicBezTo>
                  <a:pt x="12556" y="16187"/>
                  <a:pt x="12549" y="16180"/>
                  <a:pt x="12541" y="16173"/>
                </a:cubicBezTo>
                <a:cubicBezTo>
                  <a:pt x="12534" y="16167"/>
                  <a:pt x="12528" y="16165"/>
                  <a:pt x="12522" y="16161"/>
                </a:cubicBezTo>
                <a:cubicBezTo>
                  <a:pt x="12513" y="16154"/>
                  <a:pt x="12513" y="16155"/>
                  <a:pt x="12502" y="16149"/>
                </a:cubicBezTo>
                <a:cubicBezTo>
                  <a:pt x="12494" y="16145"/>
                  <a:pt x="12488" y="16142"/>
                  <a:pt x="12480" y="16139"/>
                </a:cubicBezTo>
                <a:cubicBezTo>
                  <a:pt x="12473" y="16137"/>
                  <a:pt x="12465" y="16135"/>
                  <a:pt x="12458" y="16134"/>
                </a:cubicBezTo>
                <a:cubicBezTo>
                  <a:pt x="12450" y="16133"/>
                  <a:pt x="12443" y="16133"/>
                  <a:pt x="12435" y="16132"/>
                </a:cubicBezTo>
                <a:cubicBezTo>
                  <a:pt x="12430" y="16131"/>
                  <a:pt x="12423" y="16127"/>
                  <a:pt x="12418" y="16127"/>
                </a:cubicBezTo>
                <a:cubicBezTo>
                  <a:pt x="12395" y="16125"/>
                  <a:pt x="12379" y="16130"/>
                  <a:pt x="12359" y="16137"/>
                </a:cubicBezTo>
                <a:cubicBezTo>
                  <a:pt x="12354" y="16139"/>
                  <a:pt x="12342" y="16143"/>
                  <a:pt x="12337" y="16146"/>
                </a:cubicBezTo>
                <a:cubicBezTo>
                  <a:pt x="12332" y="16149"/>
                  <a:pt x="12322" y="16162"/>
                  <a:pt x="12320" y="16163"/>
                </a:cubicBezTo>
                <a:cubicBezTo>
                  <a:pt x="12310" y="16168"/>
                  <a:pt x="12299" y="16169"/>
                  <a:pt x="12290" y="16175"/>
                </a:cubicBezTo>
                <a:cubicBezTo>
                  <a:pt x="12285" y="16180"/>
                  <a:pt x="12284" y="16181"/>
                  <a:pt x="12280" y="16183"/>
                </a:cubicBezTo>
              </a:path>
              <a:path w="8572" h="1957">
                <a:moveTo>
                  <a:pt x="12755" y="16274"/>
                </a:moveTo>
                <a:cubicBezTo>
                  <a:pt x="12751" y="16278"/>
                  <a:pt x="12747" y="16288"/>
                  <a:pt x="12738" y="16293"/>
                </a:cubicBezTo>
                <a:cubicBezTo>
                  <a:pt x="12734" y="16295"/>
                  <a:pt x="12726" y="16296"/>
                  <a:pt x="12723" y="16298"/>
                </a:cubicBezTo>
                <a:cubicBezTo>
                  <a:pt x="12718" y="16301"/>
                  <a:pt x="12714" y="16301"/>
                  <a:pt x="12709" y="16305"/>
                </a:cubicBezTo>
                <a:cubicBezTo>
                  <a:pt x="12698" y="16313"/>
                  <a:pt x="12690" y="16325"/>
                  <a:pt x="12684" y="16334"/>
                </a:cubicBezTo>
                <a:cubicBezTo>
                  <a:pt x="12681" y="16338"/>
                  <a:pt x="12682" y="16340"/>
                  <a:pt x="12679" y="16346"/>
                </a:cubicBezTo>
                <a:cubicBezTo>
                  <a:pt x="12676" y="16351"/>
                  <a:pt x="12671" y="16353"/>
                  <a:pt x="12669" y="16358"/>
                </a:cubicBezTo>
                <a:cubicBezTo>
                  <a:pt x="12667" y="16363"/>
                  <a:pt x="12664" y="16365"/>
                  <a:pt x="12662" y="16370"/>
                </a:cubicBezTo>
                <a:cubicBezTo>
                  <a:pt x="12659" y="16376"/>
                  <a:pt x="12660" y="16382"/>
                  <a:pt x="12657" y="16389"/>
                </a:cubicBezTo>
                <a:cubicBezTo>
                  <a:pt x="12656" y="16391"/>
                  <a:pt x="12649" y="16401"/>
                  <a:pt x="12647" y="16406"/>
                </a:cubicBezTo>
                <a:cubicBezTo>
                  <a:pt x="12645" y="16411"/>
                  <a:pt x="12647" y="16418"/>
                  <a:pt x="12645" y="16423"/>
                </a:cubicBezTo>
                <a:cubicBezTo>
                  <a:pt x="12642" y="16431"/>
                  <a:pt x="12638" y="16436"/>
                  <a:pt x="12637" y="16445"/>
                </a:cubicBezTo>
                <a:cubicBezTo>
                  <a:pt x="12633" y="16477"/>
                  <a:pt x="12624" y="16518"/>
                  <a:pt x="12622" y="16546"/>
                </a:cubicBezTo>
                <a:cubicBezTo>
                  <a:pt x="12621" y="16556"/>
                  <a:pt x="12627" y="16568"/>
                  <a:pt x="12625" y="16579"/>
                </a:cubicBezTo>
                <a:cubicBezTo>
                  <a:pt x="12623" y="16590"/>
                  <a:pt x="12620" y="16600"/>
                  <a:pt x="12618" y="16611"/>
                </a:cubicBezTo>
                <a:cubicBezTo>
                  <a:pt x="12616" y="16623"/>
                  <a:pt x="12609" y="16637"/>
                  <a:pt x="12608" y="16649"/>
                </a:cubicBezTo>
                <a:cubicBezTo>
                  <a:pt x="12606" y="16673"/>
                  <a:pt x="12610" y="16699"/>
                  <a:pt x="12608" y="16724"/>
                </a:cubicBezTo>
                <a:cubicBezTo>
                  <a:pt x="12607" y="16738"/>
                  <a:pt x="12606" y="16751"/>
                  <a:pt x="12605" y="16765"/>
                </a:cubicBezTo>
                <a:cubicBezTo>
                  <a:pt x="12603" y="16804"/>
                  <a:pt x="12602" y="16846"/>
                  <a:pt x="12608" y="16883"/>
                </a:cubicBezTo>
                <a:cubicBezTo>
                  <a:pt x="12611" y="16899"/>
                  <a:pt x="12615" y="16915"/>
                  <a:pt x="12620" y="16931"/>
                </a:cubicBezTo>
                <a:cubicBezTo>
                  <a:pt x="12626" y="16949"/>
                  <a:pt x="12635" y="16963"/>
                  <a:pt x="12645" y="16979"/>
                </a:cubicBezTo>
                <a:cubicBezTo>
                  <a:pt x="12654" y="16994"/>
                  <a:pt x="12660" y="17006"/>
                  <a:pt x="12672" y="17020"/>
                </a:cubicBezTo>
                <a:cubicBezTo>
                  <a:pt x="12684" y="17034"/>
                  <a:pt x="12701" y="17046"/>
                  <a:pt x="12716" y="17056"/>
                </a:cubicBezTo>
                <a:cubicBezTo>
                  <a:pt x="12735" y="17068"/>
                  <a:pt x="12758" y="17079"/>
                  <a:pt x="12780" y="17085"/>
                </a:cubicBezTo>
                <a:cubicBezTo>
                  <a:pt x="12806" y="17092"/>
                  <a:pt x="12834" y="17097"/>
                  <a:pt x="12861" y="17099"/>
                </a:cubicBezTo>
                <a:cubicBezTo>
                  <a:pt x="12888" y="17101"/>
                  <a:pt x="12917" y="17101"/>
                  <a:pt x="12942" y="17094"/>
                </a:cubicBezTo>
                <a:cubicBezTo>
                  <a:pt x="12969" y="17086"/>
                  <a:pt x="12985" y="17075"/>
                  <a:pt x="13006" y="17058"/>
                </a:cubicBezTo>
                <a:cubicBezTo>
                  <a:pt x="13029" y="17039"/>
                  <a:pt x="13049" y="17019"/>
                  <a:pt x="13068" y="16998"/>
                </a:cubicBezTo>
                <a:cubicBezTo>
                  <a:pt x="13085" y="16979"/>
                  <a:pt x="13099" y="16958"/>
                  <a:pt x="13115" y="16938"/>
                </a:cubicBezTo>
                <a:cubicBezTo>
                  <a:pt x="13139" y="16907"/>
                  <a:pt x="13154" y="16874"/>
                  <a:pt x="13169" y="16839"/>
                </a:cubicBezTo>
                <a:cubicBezTo>
                  <a:pt x="13185" y="16802"/>
                  <a:pt x="13198" y="16764"/>
                  <a:pt x="13211" y="16726"/>
                </a:cubicBezTo>
                <a:cubicBezTo>
                  <a:pt x="13223" y="16690"/>
                  <a:pt x="13230" y="16653"/>
                  <a:pt x="13238" y="16616"/>
                </a:cubicBezTo>
                <a:cubicBezTo>
                  <a:pt x="13244" y="16586"/>
                  <a:pt x="13246" y="16557"/>
                  <a:pt x="13248" y="16527"/>
                </a:cubicBezTo>
                <a:cubicBezTo>
                  <a:pt x="13250" y="16494"/>
                  <a:pt x="13245" y="16469"/>
                  <a:pt x="13238" y="16438"/>
                </a:cubicBezTo>
                <a:cubicBezTo>
                  <a:pt x="13231" y="16404"/>
                  <a:pt x="13219" y="16375"/>
                  <a:pt x="13203" y="16344"/>
                </a:cubicBezTo>
                <a:cubicBezTo>
                  <a:pt x="13192" y="16323"/>
                  <a:pt x="13179" y="16305"/>
                  <a:pt x="13166" y="16286"/>
                </a:cubicBezTo>
                <a:cubicBezTo>
                  <a:pt x="13153" y="16267"/>
                  <a:pt x="13139" y="16254"/>
                  <a:pt x="13122" y="16238"/>
                </a:cubicBezTo>
                <a:cubicBezTo>
                  <a:pt x="13107" y="16224"/>
                  <a:pt x="13093" y="16209"/>
                  <a:pt x="13075" y="16199"/>
                </a:cubicBezTo>
                <a:cubicBezTo>
                  <a:pt x="13052" y="16185"/>
                  <a:pt x="13022" y="16170"/>
                  <a:pt x="12997" y="16161"/>
                </a:cubicBezTo>
                <a:cubicBezTo>
                  <a:pt x="12972" y="16152"/>
                  <a:pt x="12946" y="16146"/>
                  <a:pt x="12920" y="16144"/>
                </a:cubicBezTo>
                <a:cubicBezTo>
                  <a:pt x="12885" y="16141"/>
                  <a:pt x="12833" y="16137"/>
                  <a:pt x="12800" y="16149"/>
                </a:cubicBezTo>
                <a:cubicBezTo>
                  <a:pt x="12785" y="16154"/>
                  <a:pt x="12771" y="16165"/>
                  <a:pt x="12758" y="16175"/>
                </a:cubicBezTo>
                <a:cubicBezTo>
                  <a:pt x="12748" y="16182"/>
                  <a:pt x="12741" y="16190"/>
                  <a:pt x="12733" y="16199"/>
                </a:cubicBezTo>
                <a:cubicBezTo>
                  <a:pt x="12727" y="16206"/>
                  <a:pt x="12719" y="16218"/>
                  <a:pt x="12714" y="16226"/>
                </a:cubicBezTo>
                <a:cubicBezTo>
                  <a:pt x="12707" y="16237"/>
                  <a:pt x="12700" y="16245"/>
                  <a:pt x="12696" y="16257"/>
                </a:cubicBezTo>
                <a:cubicBezTo>
                  <a:pt x="12691" y="16269"/>
                  <a:pt x="12691" y="16287"/>
                  <a:pt x="12689" y="16300"/>
                </a:cubicBezTo>
                <a:cubicBezTo>
                  <a:pt x="12687" y="16312"/>
                  <a:pt x="12686" y="16324"/>
                  <a:pt x="12684" y="16336"/>
                </a:cubicBezTo>
                <a:cubicBezTo>
                  <a:pt x="12682" y="16349"/>
                  <a:pt x="12680" y="16357"/>
                  <a:pt x="12679" y="16370"/>
                </a:cubicBezTo>
                <a:cubicBezTo>
                  <a:pt x="12678" y="16393"/>
                  <a:pt x="12675" y="16417"/>
                  <a:pt x="12674" y="16440"/>
                </a:cubicBezTo>
                <a:cubicBezTo>
                  <a:pt x="12674" y="16448"/>
                  <a:pt x="12674" y="16456"/>
                  <a:pt x="12674" y="16464"/>
                </a:cubicBezTo>
              </a:path>
              <a:path w="8572" h="1957">
                <a:moveTo>
                  <a:pt x="12778" y="16760"/>
                </a:moveTo>
                <a:cubicBezTo>
                  <a:pt x="12775" y="16768"/>
                  <a:pt x="12788" y="16769"/>
                  <a:pt x="12785" y="16777"/>
                </a:cubicBezTo>
                <a:cubicBezTo>
                  <a:pt x="12776" y="16804"/>
                  <a:pt x="12761" y="16848"/>
                  <a:pt x="12748" y="16878"/>
                </a:cubicBezTo>
                <a:cubicBezTo>
                  <a:pt x="12729" y="16922"/>
                  <a:pt x="12712" y="16959"/>
                  <a:pt x="12684" y="17000"/>
                </a:cubicBezTo>
                <a:cubicBezTo>
                  <a:pt x="12655" y="17042"/>
                  <a:pt x="12632" y="17070"/>
                  <a:pt x="12593" y="17104"/>
                </a:cubicBezTo>
                <a:cubicBezTo>
                  <a:pt x="12482" y="17202"/>
                  <a:pt x="12388" y="17208"/>
                  <a:pt x="12251" y="17222"/>
                </a:cubicBezTo>
                <a:cubicBezTo>
                  <a:pt x="12191" y="17228"/>
                  <a:pt x="12136" y="17232"/>
                  <a:pt x="12076" y="17234"/>
                </a:cubicBezTo>
                <a:cubicBezTo>
                  <a:pt x="11837" y="17241"/>
                  <a:pt x="11627" y="17204"/>
                  <a:pt x="11397" y="17140"/>
                </a:cubicBezTo>
                <a:cubicBezTo>
                  <a:pt x="11042" y="17042"/>
                  <a:pt x="10675" y="16978"/>
                  <a:pt x="10316" y="16887"/>
                </a:cubicBezTo>
                <a:cubicBezTo>
                  <a:pt x="9979" y="16802"/>
                  <a:pt x="9664" y="16654"/>
                  <a:pt x="9339" y="16531"/>
                </a:cubicBezTo>
                <a:cubicBezTo>
                  <a:pt x="9042" y="16418"/>
                  <a:pt x="8745" y="16311"/>
                  <a:pt x="8445" y="16207"/>
                </a:cubicBezTo>
                <a:cubicBezTo>
                  <a:pt x="7934" y="16030"/>
                  <a:pt x="7452" y="15796"/>
                  <a:pt x="6929" y="15651"/>
                </a:cubicBezTo>
                <a:cubicBezTo>
                  <a:pt x="6540" y="15543"/>
                  <a:pt x="6133" y="15495"/>
                  <a:pt x="5735" y="15434"/>
                </a:cubicBezTo>
                <a:cubicBezTo>
                  <a:pt x="5410" y="15384"/>
                  <a:pt x="5073" y="15312"/>
                  <a:pt x="4746" y="15292"/>
                </a:cubicBezTo>
                <a:cubicBezTo>
                  <a:pt x="4727" y="15291"/>
                  <a:pt x="4679" y="15290"/>
                  <a:pt x="4677" y="15290"/>
                </a:cubicBezTo>
                <a:cubicBezTo>
                  <a:pt x="4680" y="15293"/>
                  <a:pt x="4684" y="15297"/>
                  <a:pt x="4687" y="15300"/>
                </a:cubicBezTo>
              </a:path>
              <a:path w="8572" h="1957">
                <a:moveTo>
                  <a:pt x="4688" y="15304"/>
                </a:moveTo>
                <a:lnTo>
                  <a:pt x="4688" y="15304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92440" y="2448000"/>
            <a:ext cx="2968560" cy="779400"/>
          </a:xfrm>
          <a:custGeom>
            <a:avLst/>
            <a:gdLst/>
            <a:ahLst/>
            <a:rect l="l" t="t" r="r" b="b"/>
            <a:pathLst>
              <a:path w="8244" h="2169">
                <a:moveTo>
                  <a:pt x="4980" y="8966"/>
                </a:moveTo>
                <a:cubicBezTo>
                  <a:pt x="4994" y="8960"/>
                  <a:pt x="5006" y="8952"/>
                  <a:pt x="5022" y="8946"/>
                </a:cubicBezTo>
                <a:cubicBezTo>
                  <a:pt x="5191" y="8880"/>
                  <a:pt x="5358" y="8807"/>
                  <a:pt x="5524" y="8730"/>
                </a:cubicBezTo>
                <a:cubicBezTo>
                  <a:pt x="5790" y="8607"/>
                  <a:pt x="6055" y="8470"/>
                  <a:pt x="6334" y="8374"/>
                </a:cubicBezTo>
                <a:cubicBezTo>
                  <a:pt x="6779" y="8222"/>
                  <a:pt x="7247" y="8148"/>
                  <a:pt x="7692" y="7996"/>
                </a:cubicBezTo>
                <a:cubicBezTo>
                  <a:pt x="8012" y="7887"/>
                  <a:pt x="8330" y="7761"/>
                  <a:pt x="8657" y="7674"/>
                </a:cubicBezTo>
                <a:cubicBezTo>
                  <a:pt x="8868" y="7618"/>
                  <a:pt x="9084" y="7569"/>
                  <a:pt x="9297" y="7520"/>
                </a:cubicBezTo>
                <a:cubicBezTo>
                  <a:pt x="9955" y="7368"/>
                  <a:pt x="10633" y="7289"/>
                  <a:pt x="11296" y="7154"/>
                </a:cubicBezTo>
                <a:cubicBezTo>
                  <a:pt x="11510" y="7110"/>
                  <a:pt x="11721" y="7059"/>
                  <a:pt x="11931" y="7000"/>
                </a:cubicBezTo>
                <a:cubicBezTo>
                  <a:pt x="12229" y="6917"/>
                  <a:pt x="12534" y="6826"/>
                  <a:pt x="12842" y="6805"/>
                </a:cubicBezTo>
                <a:cubicBezTo>
                  <a:pt x="12972" y="6796"/>
                  <a:pt x="13102" y="6803"/>
                  <a:pt x="13221" y="6817"/>
                </a:cubicBezTo>
                <a:cubicBezTo>
                  <a:pt x="13225" y="6817"/>
                  <a:pt x="13222" y="6822"/>
                  <a:pt x="13223" y="68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5720" y="4486320"/>
            <a:ext cx="2600280" cy="1373040"/>
          </a:xfrm>
          <a:custGeom>
            <a:avLst/>
            <a:gdLst/>
            <a:ahLst/>
            <a:rect l="l" t="t" r="r" b="b"/>
            <a:pathLst>
              <a:path w="7223" h="3812">
                <a:moveTo>
                  <a:pt x="4884" y="12463"/>
                </a:moveTo>
                <a:cubicBezTo>
                  <a:pt x="4880" y="12463"/>
                  <a:pt x="4878" y="12464"/>
                  <a:pt x="4876" y="12468"/>
                </a:cubicBezTo>
                <a:cubicBezTo>
                  <a:pt x="5448" y="12472"/>
                  <a:pt x="5892" y="12630"/>
                  <a:pt x="6405" y="12877"/>
                </a:cubicBezTo>
                <a:cubicBezTo>
                  <a:pt x="6654" y="12997"/>
                  <a:pt x="6894" y="13128"/>
                  <a:pt x="7146" y="13243"/>
                </a:cubicBezTo>
                <a:cubicBezTo>
                  <a:pt x="7674" y="13484"/>
                  <a:pt x="8163" y="13829"/>
                  <a:pt x="8640" y="14157"/>
                </a:cubicBezTo>
                <a:cubicBezTo>
                  <a:pt x="8931" y="14357"/>
                  <a:pt x="9207" y="14556"/>
                  <a:pt x="9511" y="14734"/>
                </a:cubicBezTo>
                <a:cubicBezTo>
                  <a:pt x="9805" y="14905"/>
                  <a:pt x="10062" y="15122"/>
                  <a:pt x="10338" y="15316"/>
                </a:cubicBezTo>
                <a:cubicBezTo>
                  <a:pt x="10651" y="15536"/>
                  <a:pt x="11025" y="15657"/>
                  <a:pt x="11360" y="15826"/>
                </a:cubicBezTo>
                <a:cubicBezTo>
                  <a:pt x="11489" y="15891"/>
                  <a:pt x="11604" y="15968"/>
                  <a:pt x="11724" y="16041"/>
                </a:cubicBezTo>
                <a:cubicBezTo>
                  <a:pt x="11810" y="16093"/>
                  <a:pt x="11896" y="16145"/>
                  <a:pt x="11980" y="16199"/>
                </a:cubicBezTo>
                <a:cubicBezTo>
                  <a:pt x="12016" y="16222"/>
                  <a:pt x="12048" y="16244"/>
                  <a:pt x="12081" y="16264"/>
                </a:cubicBezTo>
                <a:cubicBezTo>
                  <a:pt x="12085" y="16266"/>
                  <a:pt x="12093" y="16271"/>
                  <a:pt x="12098" y="162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Microsoft PowerPoint</a:t>
            </a: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An electronic presentation tool.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Used to present information by computer and projector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Microsoft PowerPoint</a:t>
            </a: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Now you are ready to begin your Personal Portfolios!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Building a PowerPoint:</a:t>
            </a: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2101320"/>
            <a:ext cx="83055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Getting Started: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Open PowerPoint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Choose a Layout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Gill Sans Ultra Bold Condensed"/>
              </a:rPr>
              <a:t>Start with a Title Slide</a:t>
            </a:r>
            <a:endParaRPr b="0" lang="en-US" sz="2000" spc="-1" strike="noStrike">
              <a:solidFill>
                <a:srgbClr val="5b5249"/>
              </a:solidFill>
              <a:latin typeface="Gill Sans Ultra Bold Condensed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Adding New Slides: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Insert, New Slide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~or~  choose the ”New Slide” button on the Standard toolbar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Gill Sans Ultra Bold Condensed"/>
              </a:rPr>
              <a:t>choose the type of slide needed.  Bulleted List is the best to choose.</a:t>
            </a:r>
            <a:endParaRPr b="0" lang="en-US" sz="20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Building a PowerPoint </a:t>
            </a:r>
            <a:r>
              <a:rPr b="0" lang="en-US" sz="2000" spc="-1" strike="noStrike">
                <a:solidFill>
                  <a:srgbClr val="2a3d7a"/>
                </a:solidFill>
                <a:latin typeface="Berlin Sans FB Demi"/>
              </a:rPr>
              <a:t>cont’d</a:t>
            </a: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:</a:t>
            </a: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To add text: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Click into the placeholders and begin typing.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If you don’t want bullets, turn off the bullets button on Formatting Toolbar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or turn it on, if you want them!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Can also go into Format, Bullets/Numbering and Customize, just like MS Word!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Building a PowerPoint </a:t>
            </a:r>
            <a:r>
              <a:rPr b="0" lang="en-US" sz="2000" spc="-1" strike="noStrike">
                <a:solidFill>
                  <a:srgbClr val="2a3d7a"/>
                </a:solidFill>
                <a:latin typeface="Berlin Sans FB Demi"/>
              </a:rPr>
              <a:t>cont’d</a:t>
            </a: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:</a:t>
            </a: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Formatting Text: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It is better to break your paragraphs up into small thoughts – separated by bullets.  (It is easier to read!)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Having at least three ideas is always a good start.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Building a PowerPoint </a:t>
            </a:r>
            <a:r>
              <a:rPr b="0" lang="en-US" sz="2000" spc="-1" strike="noStrike">
                <a:solidFill>
                  <a:srgbClr val="2a3d7a"/>
                </a:solidFill>
                <a:latin typeface="Berlin Sans FB Demi"/>
              </a:rPr>
              <a:t>cont’d</a:t>
            </a:r>
            <a:r>
              <a:rPr b="0" lang="en-US" sz="4400" spc="-1" strike="noStrike">
                <a:solidFill>
                  <a:srgbClr val="2a3d7a"/>
                </a:solidFill>
                <a:latin typeface="Berlin Sans FB Demi"/>
              </a:rPr>
              <a:t>:</a:t>
            </a:r>
            <a:endParaRPr b="0" lang="en-US" sz="44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2101320"/>
            <a:ext cx="8381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To get rid of a text box: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select your text box, then press ”Delete” (not backspace!)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This will help clean up the clutter.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Get organized!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Add all your slides and information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Then go back and format your text and slides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Last, add your graphics and animations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Berlin Sans FB Demi"/>
              </a:rPr>
              <a:t>Formatting your Text &amp; Slides</a:t>
            </a:r>
            <a:endParaRPr b="0" lang="en-US" sz="40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Use your Formatting Toolbar, just like in MS Word!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Font style, font size, font color, B I U, alignments.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Add                                         in place of your titles: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Delete your text box and add a WordArt title from your Drawing toolbar!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09680" y="3886200"/>
            <a:ext cx="4114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oudy Stout"/>
              </a:rPr>
              <a:t>WordAr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oudy Stout"/>
              <a:ea typeface="Goudy Sto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Berlin Sans FB Demi"/>
              </a:rPr>
              <a:t>Formatting your Text &amp; Slides </a:t>
            </a:r>
            <a:r>
              <a:rPr b="0" lang="en-US" sz="2000" spc="-1" strike="noStrike">
                <a:solidFill>
                  <a:srgbClr val="2a3d7a"/>
                </a:solidFill>
                <a:latin typeface="Berlin Sans FB Demi"/>
              </a:rPr>
              <a:t>cont’d:</a:t>
            </a:r>
            <a:endParaRPr b="0" lang="en-US" sz="20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101320"/>
            <a:ext cx="8381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Gill Sans Ultra Bold Condensed"/>
              </a:rPr>
              <a:t>To add a background to your slides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Gill Sans Ultra Bold Condensed"/>
              </a:rPr>
              <a:t>1.  Format, Apply Design Template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This allows you to select a pre-designed background made for PowerPoints.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Gill Sans Ultra Bold Condensed"/>
              </a:rPr>
              <a:t>This one is called Nature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Berlin Sans FB Demi"/>
              </a:rPr>
              <a:t>Formatting your Text &amp; Slides </a:t>
            </a:r>
            <a:r>
              <a:rPr b="0" lang="en-US" sz="2000" spc="-1" strike="noStrike">
                <a:solidFill>
                  <a:srgbClr val="2a3d7a"/>
                </a:solidFill>
                <a:latin typeface="Berlin Sans FB Demi"/>
              </a:rPr>
              <a:t>cont’d:</a:t>
            </a:r>
            <a:endParaRPr b="0" lang="en-US" sz="2000" spc="-1" strike="noStrike">
              <a:solidFill>
                <a:srgbClr val="2a3d7a"/>
              </a:solidFill>
              <a:latin typeface="Berlin Sans FB Dem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101320"/>
            <a:ext cx="8381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00e"/>
                </a:solidFill>
                <a:latin typeface="Gill Sans Ultra Bold Condensed"/>
              </a:rPr>
              <a:t>Still adding a background to your slides:</a:t>
            </a:r>
            <a:endParaRPr b="0" lang="en-US" sz="32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00e"/>
                </a:solidFill>
                <a:latin typeface="Gill Sans Ultra Bold Condensed"/>
              </a:rPr>
              <a:t>2.  Format, Background (Fill Effects)</a:t>
            </a:r>
            <a:endParaRPr b="0" lang="en-US" sz="28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00e"/>
                </a:solidFill>
                <a:latin typeface="Gill Sans Ultra Bold Condensed"/>
              </a:rPr>
              <a:t>Click drop-down box and choose a color or choose Fill Effects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3" marL="1712880" indent="-228600">
              <a:spcBef>
                <a:spcPts val="499"/>
              </a:spcBef>
              <a:buClr>
                <a:srgbClr val="12100e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2100e"/>
                </a:solidFill>
                <a:latin typeface="Gill Sans Ultra Bold Condensed"/>
              </a:rPr>
              <a:t>Can choose Gradient, Texture, or Pattern.</a:t>
            </a:r>
            <a:endParaRPr b="0" lang="en-US" sz="2000" spc="-1" strike="noStrike">
              <a:solidFill>
                <a:srgbClr val="5b5249"/>
              </a:solidFill>
              <a:latin typeface="Gill Sans Ultra Bold Condensed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00e"/>
                </a:solidFill>
                <a:latin typeface="Gill Sans Ultra Bold Condensed"/>
              </a:rPr>
              <a:t>Click the ”Omit master graphics” button, then click Apply</a:t>
            </a:r>
            <a:endParaRPr b="0" lang="en-US" sz="2400" spc="-1" strike="noStrike">
              <a:solidFill>
                <a:srgbClr val="5b5249"/>
              </a:solidFill>
              <a:latin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6:03:37Z</dcterms:created>
  <dc:creator>Joshua and Lenessa Keehn</dc:creator>
  <dc:description/>
  <dc:language>en-US</dc:language>
  <cp:lastModifiedBy>LDSD</cp:lastModifiedBy>
  <dcterms:modified xsi:type="dcterms:W3CDTF">2009-04-21T01:58:15Z</dcterms:modified>
  <cp:revision>49</cp:revision>
  <dc:subject/>
  <dc:title>PowerPoint Presentation</dc:title>
</cp:coreProperties>
</file>